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9C20-1E93-48EF-84EF-E2424BC1C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nperin http://ytoswww/yhteiset/Huippuyksikko/Julkaisut/2002/1106Tuloskeskustelu/TuomistoTuloskeskustelu2003Riskianalyysi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4/1116Yhdistelmaliikenne/TuomistoYhdistelmaliikenne20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Kokoukset/2005/1109YhdistelmaliikenneSidosryhmat/TuomistoYhdistelmaliikenne200511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askenta tehty malliversiolla 1.0.1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YEP/publications/In_progress/Tuomisto_CompositeTraffic/BMC%20Public%20Health20050819/20051104Revised/CompositeTraffic_1_0_1.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va löytyy http://ytoswww/yhteiset/YEP/publications/In_progress/Tuomisto_CompositeTraffic/BMC%20Public%20Health20050819/20051104Revised/Tuomisto_CompositeTraffic_13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askenta tehty malliversiolla 1.0.1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YEP/publications/In_progress/Tuomisto_CompositeTraffic/BMC%20Public%20Health20050819/20051104Revised/CompositeTraffic_1_0_1.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va löytyy http://ytoswww/yhteiset/YEP/publications/In_progress/Tuomisto_CompositeTraffic/BMC%20Public%20Health20050819/20051104Revised/Tuomisto_CompositeTraffic_13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Kokoukset/2005/1109YhdistelmaliikenneSidosryhmat/TuomistoYhdistelmaliikenne200511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Kokoukset/2005/1109YhdistelmaliikenneSidosryhmat/TuomistoYhdistelmaliikenne200511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Kokoukset/2005/1109YhdistelmaliikenneSidosryhmat/TuomistoYhdistelmaliikenne200511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Presentations/2006/0113TulevaisuudenLiikenne/TuomistoYhdistelmaliikenne20060113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upload.wikimedia.org/wikipedia/commons/8/84/Paranal_opendom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epsis.fi/lehti/2007/2007-4-jarvin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levaisuuden liikenne –seminaari Helsinki 13.1.2006, Tieteiden talo. Paikalla Jouni Tuomisto. Tämä esit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Presentations/2006/0113TulevaisuudenLiikenne/TuomistoYhdistelmaliikenne20060113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uperäinen esitys http://ytoswww/yhteiset/Huippuyksikko/Kokoukset/2005/1125YhdLiikLehdistotilaisuus/TuomistoYhdistelmaliikenne20051125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4/1116Yhdistelmaliikenne/TuomistoYhdistelmaliikenne20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2/1106Tuloskeskustelu/TuomistoTuloskeskustelu2003Riskianalyysi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2/1106Tuloskeskustelu/TuomistoTuloskeskustelu2003Riskianalyysi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2/1106Tuloskeskustelu/TuomistoTuloskeskustelu2003Riskianalyysi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7A4-AFD0-42DE-AC5E-54279EE8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BFD-466C-43EF-AA04-40DAD2F7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418-951E-4044-8CF1-225AFE21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2D4-9E6D-4D4A-8DCC-9A80AD95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DE9-E160-4998-90EA-3088AD0C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4C4B-4FDA-4EEF-A188-B73FE8AB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7F83-E1F5-4DD4-8291-4947B1AB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D8EC-BB7D-4ABC-8A1F-AAF0665E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03C7-7F81-4CDF-B305-5848AAF8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E776-196A-4B8E-87BB-4589E77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3A87-8E01-4F0D-B044-47D44A64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665-5BFB-44A6-90AA-BFC6CD35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74E4-D35E-4012-8140-381211E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3611-C346-4FC1-836C-17B45C39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8AF5-8E91-4B9A-8B45-368A1589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9984-8BF2-44B3-A02E-81BA7405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5629-AD07-4092-94AA-CE27B6E5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258-A804-40F7-A5C4-202ABA46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763-20B8-4088-A26C-6B11C7EB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E3E-86E3-4DB5-A99B-8293AB9F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D96-859A-43DF-8BB6-61587F6D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BC5-469F-4196-B163-3C9BA7E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45A-7632-4C66-8469-B8064207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8A0-C96F-4A53-883E-1438BF9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A450-2182-4874-BFC0-E48B3D03D2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8443-BC16-4D65-828E-9FD14E4A25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opasnet.org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omedcentral.com/1471-2458/5/123/abstract" TargetMode="External"/><Relationship Id="rId2" Type="http://schemas.openxmlformats.org/officeDocument/2006/relationships/hyperlink" Target="http://www.biomedcentral.com/1471-2458/5/123/abstract" TargetMode="External"/><Relationship Id="rId3" Type="http://schemas.openxmlformats.org/officeDocument/2006/relationships/hyperlink" Target="http://www.biomedcentral.com/1471-2458/5/123/abstract" TargetMode="External"/><Relationship Id="rId4" Type="http://schemas.openxmlformats.org/officeDocument/2006/relationships/hyperlink" Target="http://www.biomedcentral.com/1471-2458/5/123/abstract" TargetMode="External"/><Relationship Id="rId5" Type="http://schemas.openxmlformats.org/officeDocument/2006/relationships/hyperlink" Target="http://en.opasnet.org/" TargetMode="External"/><Relationship Id="rId6" Type="http://schemas.openxmlformats.org/officeDocument/2006/relationships/hyperlink" Target="http://en.opasnet.org/w/File:Composite_traffic.ANA" TargetMode="External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docs.google.com/drawings/d/1f1s1drjo8qMJ-vWR3BQgsfRbH2DO0E43Xb01eRddWcg/edit?hl=en_GB&amp;authkey=CN_oqbYK&amp;pli=1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opasnet.org/w/Darm" TargetMode="External"/><Relationship Id="rId2" Type="http://schemas.openxmlformats.org/officeDocument/2006/relationships/hyperlink" Target="http://en.opasnet.org/w/Assessment_of_the_health_impacts_of_H1N1_vaccination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oin mallitus. Esimerkkinä liikenteen muutosten päästövaikutukset ja sairastuvu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ni Tuomisto, THL, Kuop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54040" y="1162080"/>
            <a:ext cx="1843200" cy="743040"/>
          </a:xfrm>
          <a:custGeom>
            <a:avLst/>
            <a:gdLst/>
            <a:ahLst/>
            <a:rect l="l" t="t" r="r" b="b"/>
            <a:pathLst>
              <a:path w="1161" h="468">
                <a:moveTo>
                  <a:pt x="308" y="462"/>
                </a:moveTo>
                <a:lnTo>
                  <a:pt x="1161" y="461"/>
                </a:lnTo>
                <a:lnTo>
                  <a:pt x="1134" y="277"/>
                </a:lnTo>
                <a:lnTo>
                  <a:pt x="870" y="246"/>
                </a:lnTo>
                <a:lnTo>
                  <a:pt x="772" y="33"/>
                </a:lnTo>
                <a:lnTo>
                  <a:pt x="389" y="0"/>
                </a:lnTo>
                <a:lnTo>
                  <a:pt x="60" y="13"/>
                </a:lnTo>
                <a:lnTo>
                  <a:pt x="7" y="211"/>
                </a:lnTo>
                <a:lnTo>
                  <a:pt x="0" y="468"/>
                </a:lnTo>
                <a:lnTo>
                  <a:pt x="308" y="46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35000" y="1766880"/>
            <a:ext cx="22248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907920" y="176688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7620120" y="3886200"/>
            <a:ext cx="457200" cy="837720"/>
            <a:chOff x="7620120" y="3886200"/>
            <a:chExt cx="457200" cy="837720"/>
          </a:xfrm>
        </p:grpSpPr>
        <p:sp>
          <p:nvSpPr>
            <p:cNvPr id="702" name=""/>
            <p:cNvSpPr/>
            <p:nvPr/>
          </p:nvSpPr>
          <p:spPr>
            <a:xfrm>
              <a:off x="7756560" y="38862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20120" y="41158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639800" y="1341360"/>
            <a:ext cx="268200" cy="514440"/>
            <a:chOff x="1639800" y="1341360"/>
            <a:chExt cx="268200" cy="514440"/>
          </a:xfrm>
        </p:grpSpPr>
        <p:sp>
          <p:nvSpPr>
            <p:cNvPr id="705" name=""/>
            <p:cNvSpPr/>
            <p:nvPr/>
          </p:nvSpPr>
          <p:spPr>
            <a:xfrm>
              <a:off x="16426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398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13716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62120" y="1295280"/>
            <a:ext cx="268200" cy="514440"/>
            <a:chOff x="762120" y="1295280"/>
            <a:chExt cx="268200" cy="514440"/>
          </a:xfrm>
        </p:grpSpPr>
        <p:sp>
          <p:nvSpPr>
            <p:cNvPr id="711" name=""/>
            <p:cNvSpPr/>
            <p:nvPr/>
          </p:nvSpPr>
          <p:spPr>
            <a:xfrm>
              <a:off x="76500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120" y="1449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990720" y="1295280"/>
            <a:ext cx="268200" cy="514440"/>
            <a:chOff x="990720" y="1295280"/>
            <a:chExt cx="268200" cy="514440"/>
          </a:xfrm>
        </p:grpSpPr>
        <p:sp>
          <p:nvSpPr>
            <p:cNvPr id="714" name=""/>
            <p:cNvSpPr/>
            <p:nvPr/>
          </p:nvSpPr>
          <p:spPr>
            <a:xfrm>
              <a:off x="99360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90720" y="1449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2895480" y="1295280"/>
            <a:ext cx="819360" cy="588960"/>
          </a:xfrm>
          <a:custGeom>
            <a:avLst/>
            <a:gdLst/>
            <a:ahLst/>
            <a:rect l="l" t="t" r="r" b="b"/>
            <a:pathLst>
              <a:path w="516" h="371">
                <a:moveTo>
                  <a:pt x="0" y="370"/>
                </a:moveTo>
                <a:lnTo>
                  <a:pt x="424" y="371"/>
                </a:lnTo>
                <a:lnTo>
                  <a:pt x="516" y="371"/>
                </a:lnTo>
                <a:lnTo>
                  <a:pt x="510" y="252"/>
                </a:lnTo>
                <a:lnTo>
                  <a:pt x="466" y="163"/>
                </a:lnTo>
                <a:lnTo>
                  <a:pt x="381" y="1"/>
                </a:lnTo>
                <a:lnTo>
                  <a:pt x="118" y="0"/>
                </a:lnTo>
                <a:lnTo>
                  <a:pt x="6" y="165"/>
                </a:lnTo>
                <a:lnTo>
                  <a:pt x="6" y="224"/>
                </a:lnTo>
                <a:lnTo>
                  <a:pt x="6" y="317"/>
                </a:lnTo>
                <a:lnTo>
                  <a:pt x="0" y="37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340080" y="1343160"/>
            <a:ext cx="268200" cy="514080"/>
            <a:chOff x="3340080" y="1343160"/>
            <a:chExt cx="268200" cy="514080"/>
          </a:xfrm>
        </p:grpSpPr>
        <p:sp>
          <p:nvSpPr>
            <p:cNvPr id="718" name=""/>
            <p:cNvSpPr/>
            <p:nvPr/>
          </p:nvSpPr>
          <p:spPr>
            <a:xfrm>
              <a:off x="3342960" y="134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40080" y="149760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2614680" y="152568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295280" y="1295280"/>
            <a:ext cx="268560" cy="514440"/>
            <a:chOff x="1295280" y="1295280"/>
            <a:chExt cx="268560" cy="514440"/>
          </a:xfrm>
        </p:grpSpPr>
        <p:sp>
          <p:nvSpPr>
            <p:cNvPr id="722" name=""/>
            <p:cNvSpPr/>
            <p:nvPr/>
          </p:nvSpPr>
          <p:spPr>
            <a:xfrm>
              <a:off x="129816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95280" y="144972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066680" y="1295280"/>
            <a:ext cx="268560" cy="514440"/>
            <a:chOff x="1066680" y="1295280"/>
            <a:chExt cx="268560" cy="514440"/>
          </a:xfrm>
        </p:grpSpPr>
        <p:sp>
          <p:nvSpPr>
            <p:cNvPr id="725" name=""/>
            <p:cNvSpPr/>
            <p:nvPr/>
          </p:nvSpPr>
          <p:spPr>
            <a:xfrm>
              <a:off x="106956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6680" y="144972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114800" y="2438280"/>
            <a:ext cx="1828800" cy="685800"/>
            <a:chOff x="4114800" y="2438280"/>
            <a:chExt cx="1828800" cy="685800"/>
          </a:xfrm>
        </p:grpSpPr>
        <p:sp>
          <p:nvSpPr>
            <p:cNvPr id="728" name=""/>
            <p:cNvSpPr/>
            <p:nvPr/>
          </p:nvSpPr>
          <p:spPr>
            <a:xfrm>
              <a:off x="4114800" y="2438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63640" y="29098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7640" y="29098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068800" y="2484360"/>
            <a:ext cx="268200" cy="514440"/>
            <a:chOff x="5068800" y="2484360"/>
            <a:chExt cx="268200" cy="514440"/>
          </a:xfrm>
        </p:grpSpPr>
        <p:sp>
          <p:nvSpPr>
            <p:cNvPr id="732" name=""/>
            <p:cNvSpPr/>
            <p:nvPr/>
          </p:nvSpPr>
          <p:spPr>
            <a:xfrm>
              <a:off x="5071680" y="2484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68800" y="2638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0384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2286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24280" y="4419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0060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0" y="4343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81480" y="2286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96252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057400" y="3657600"/>
            <a:ext cx="457200" cy="837720"/>
            <a:chOff x="2057400" y="3657600"/>
            <a:chExt cx="457200" cy="837720"/>
          </a:xfrm>
        </p:grpSpPr>
        <p:sp>
          <p:nvSpPr>
            <p:cNvPr id="742" name=""/>
            <p:cNvSpPr/>
            <p:nvPr/>
          </p:nvSpPr>
          <p:spPr>
            <a:xfrm>
              <a:off x="2193840" y="36576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57400" y="38872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733920" y="3886200"/>
            <a:ext cx="457200" cy="837720"/>
            <a:chOff x="3733920" y="3886200"/>
            <a:chExt cx="457200" cy="837720"/>
          </a:xfrm>
        </p:grpSpPr>
        <p:sp>
          <p:nvSpPr>
            <p:cNvPr id="745" name=""/>
            <p:cNvSpPr/>
            <p:nvPr/>
          </p:nvSpPr>
          <p:spPr>
            <a:xfrm>
              <a:off x="3870360" y="38862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33920" y="41158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543800" y="5334120"/>
            <a:ext cx="457200" cy="837720"/>
            <a:chOff x="7543800" y="5334120"/>
            <a:chExt cx="457200" cy="837720"/>
          </a:xfrm>
        </p:grpSpPr>
        <p:sp>
          <p:nvSpPr>
            <p:cNvPr id="748" name=""/>
            <p:cNvSpPr/>
            <p:nvPr/>
          </p:nvSpPr>
          <p:spPr>
            <a:xfrm>
              <a:off x="7680240" y="533412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543800" y="556380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85800" y="1295280"/>
            <a:ext cx="268200" cy="514440"/>
            <a:chOff x="685800" y="1295280"/>
            <a:chExt cx="268200" cy="514440"/>
          </a:xfrm>
        </p:grpSpPr>
        <p:sp>
          <p:nvSpPr>
            <p:cNvPr id="751" name=""/>
            <p:cNvSpPr/>
            <p:nvPr/>
          </p:nvSpPr>
          <p:spPr>
            <a:xfrm>
              <a:off x="68868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1449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09480" y="2362320"/>
            <a:ext cx="1828800" cy="685800"/>
            <a:chOff x="609480" y="2362320"/>
            <a:chExt cx="1828800" cy="685800"/>
          </a:xfrm>
        </p:grpSpPr>
        <p:sp>
          <p:nvSpPr>
            <p:cNvPr id="754" name=""/>
            <p:cNvSpPr/>
            <p:nvPr/>
          </p:nvSpPr>
          <p:spPr>
            <a:xfrm>
              <a:off x="609480" y="236232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58320" y="283392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32320" y="283392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563840" y="2408400"/>
            <a:ext cx="268200" cy="514080"/>
            <a:chOff x="1563840" y="2408400"/>
            <a:chExt cx="268200" cy="514080"/>
          </a:xfrm>
        </p:grpSpPr>
        <p:sp>
          <p:nvSpPr>
            <p:cNvPr id="758" name=""/>
            <p:cNvSpPr/>
            <p:nvPr/>
          </p:nvSpPr>
          <p:spPr>
            <a:xfrm>
              <a:off x="1566720" y="24084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63840" y="256284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33520" y="25146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094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295280" y="2133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2133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6765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" y="27432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6324480" y="2438280"/>
            <a:ext cx="1828800" cy="685800"/>
            <a:chOff x="6324480" y="2438280"/>
            <a:chExt cx="1828800" cy="685800"/>
          </a:xfrm>
        </p:grpSpPr>
        <p:sp>
          <p:nvSpPr>
            <p:cNvPr id="768" name=""/>
            <p:cNvSpPr/>
            <p:nvPr/>
          </p:nvSpPr>
          <p:spPr>
            <a:xfrm>
              <a:off x="6324480" y="2438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73320" y="290988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7320" y="290988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7278840" y="2484360"/>
            <a:ext cx="268200" cy="514440"/>
            <a:chOff x="7278840" y="2484360"/>
            <a:chExt cx="268200" cy="514440"/>
          </a:xfrm>
        </p:grpSpPr>
        <p:sp>
          <p:nvSpPr>
            <p:cNvPr id="772" name=""/>
            <p:cNvSpPr/>
            <p:nvPr/>
          </p:nvSpPr>
          <p:spPr>
            <a:xfrm>
              <a:off x="7281720" y="2484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78840" y="2638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213372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324480" y="2286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29400" y="2438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102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8487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391520" y="2286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7220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838080" y="3886200"/>
            <a:ext cx="457200" cy="837720"/>
            <a:chOff x="838080" y="3886200"/>
            <a:chExt cx="457200" cy="837720"/>
          </a:xfrm>
        </p:grpSpPr>
        <p:sp>
          <p:nvSpPr>
            <p:cNvPr id="782" name=""/>
            <p:cNvSpPr/>
            <p:nvPr/>
          </p:nvSpPr>
          <p:spPr>
            <a:xfrm>
              <a:off x="974520" y="38862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38080" y="41158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5334120" y="5257800"/>
            <a:ext cx="457200" cy="837720"/>
            <a:chOff x="5334120" y="5257800"/>
            <a:chExt cx="457200" cy="837720"/>
          </a:xfrm>
        </p:grpSpPr>
        <p:sp>
          <p:nvSpPr>
            <p:cNvPr id="785" name=""/>
            <p:cNvSpPr/>
            <p:nvPr/>
          </p:nvSpPr>
          <p:spPr>
            <a:xfrm>
              <a:off x="5470560" y="5257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34120" y="5487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2995560" y="1525680"/>
            <a:ext cx="304920" cy="30456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371600" y="1295280"/>
            <a:ext cx="268200" cy="514440"/>
            <a:chOff x="1371600" y="1295280"/>
            <a:chExt cx="268200" cy="514440"/>
          </a:xfrm>
        </p:grpSpPr>
        <p:sp>
          <p:nvSpPr>
            <p:cNvPr id="789" name=""/>
            <p:cNvSpPr/>
            <p:nvPr/>
          </p:nvSpPr>
          <p:spPr>
            <a:xfrm>
              <a:off x="137448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71600" y="1449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219320" y="2438280"/>
            <a:ext cx="268200" cy="514440"/>
            <a:chOff x="1219320" y="2438280"/>
            <a:chExt cx="268200" cy="514440"/>
          </a:xfrm>
        </p:grpSpPr>
        <p:sp>
          <p:nvSpPr>
            <p:cNvPr id="792" name=""/>
            <p:cNvSpPr/>
            <p:nvPr/>
          </p:nvSpPr>
          <p:spPr>
            <a:xfrm>
              <a:off x="1222200" y="2438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219320" y="2592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352680" y="4952880"/>
            <a:ext cx="457200" cy="838080"/>
            <a:chOff x="3352680" y="4952880"/>
            <a:chExt cx="457200" cy="838080"/>
          </a:xfrm>
        </p:grpSpPr>
        <p:sp>
          <p:nvSpPr>
            <p:cNvPr id="795" name=""/>
            <p:cNvSpPr/>
            <p:nvPr/>
          </p:nvSpPr>
          <p:spPr>
            <a:xfrm>
              <a:off x="3489120" y="4952880"/>
              <a:ext cx="262080" cy="2444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52680" y="5182560"/>
              <a:ext cx="457200" cy="60840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5334120" y="3962520"/>
            <a:ext cx="457200" cy="837720"/>
            <a:chOff x="5334120" y="3962520"/>
            <a:chExt cx="457200" cy="837720"/>
          </a:xfrm>
        </p:grpSpPr>
        <p:sp>
          <p:nvSpPr>
            <p:cNvPr id="798" name=""/>
            <p:cNvSpPr/>
            <p:nvPr/>
          </p:nvSpPr>
          <p:spPr>
            <a:xfrm>
              <a:off x="5470560" y="396252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34120" y="419220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5715000" y="1219320"/>
            <a:ext cx="1843200" cy="742680"/>
          </a:xfrm>
          <a:custGeom>
            <a:avLst/>
            <a:gdLst/>
            <a:ahLst/>
            <a:rect l="l" t="t" r="r" b="b"/>
            <a:pathLst>
              <a:path w="1161" h="468">
                <a:moveTo>
                  <a:pt x="308" y="462"/>
                </a:moveTo>
                <a:lnTo>
                  <a:pt x="1161" y="461"/>
                </a:lnTo>
                <a:lnTo>
                  <a:pt x="1134" y="277"/>
                </a:lnTo>
                <a:lnTo>
                  <a:pt x="870" y="246"/>
                </a:lnTo>
                <a:lnTo>
                  <a:pt x="772" y="33"/>
                </a:lnTo>
                <a:lnTo>
                  <a:pt x="389" y="0"/>
                </a:lnTo>
                <a:lnTo>
                  <a:pt x="60" y="13"/>
                </a:lnTo>
                <a:lnTo>
                  <a:pt x="7" y="211"/>
                </a:lnTo>
                <a:lnTo>
                  <a:pt x="0" y="468"/>
                </a:lnTo>
                <a:lnTo>
                  <a:pt x="308" y="46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095960" y="1824120"/>
            <a:ext cx="22248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68880" y="182412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6800760" y="1398600"/>
            <a:ext cx="268200" cy="514440"/>
            <a:chOff x="6800760" y="1398600"/>
            <a:chExt cx="268200" cy="514440"/>
          </a:xfrm>
        </p:grpSpPr>
        <p:sp>
          <p:nvSpPr>
            <p:cNvPr id="804" name=""/>
            <p:cNvSpPr/>
            <p:nvPr/>
          </p:nvSpPr>
          <p:spPr>
            <a:xfrm>
              <a:off x="6803640" y="13986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00760" y="155304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6532560" y="1123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370640" y="1123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913440" y="120024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6151680" y="1352520"/>
            <a:ext cx="268200" cy="514440"/>
            <a:chOff x="6151680" y="1352520"/>
            <a:chExt cx="268200" cy="514440"/>
          </a:xfrm>
        </p:grpSpPr>
        <p:sp>
          <p:nvSpPr>
            <p:cNvPr id="810" name=""/>
            <p:cNvSpPr/>
            <p:nvPr/>
          </p:nvSpPr>
          <p:spPr>
            <a:xfrm>
              <a:off x="6154560" y="13525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51680" y="150696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456240" y="1352520"/>
            <a:ext cx="268560" cy="514440"/>
            <a:chOff x="6456240" y="1352520"/>
            <a:chExt cx="268560" cy="514440"/>
          </a:xfrm>
        </p:grpSpPr>
        <p:sp>
          <p:nvSpPr>
            <p:cNvPr id="813" name=""/>
            <p:cNvSpPr/>
            <p:nvPr/>
          </p:nvSpPr>
          <p:spPr>
            <a:xfrm>
              <a:off x="6459120" y="13525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56240" y="150696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6227640" y="1352520"/>
            <a:ext cx="268560" cy="514440"/>
            <a:chOff x="6227640" y="1352520"/>
            <a:chExt cx="268560" cy="514440"/>
          </a:xfrm>
        </p:grpSpPr>
        <p:sp>
          <p:nvSpPr>
            <p:cNvPr id="816" name=""/>
            <p:cNvSpPr/>
            <p:nvPr/>
          </p:nvSpPr>
          <p:spPr>
            <a:xfrm>
              <a:off x="6230520" y="13525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27640" y="150696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532560" y="1352520"/>
            <a:ext cx="268200" cy="514440"/>
            <a:chOff x="6532560" y="1352520"/>
            <a:chExt cx="268200" cy="514440"/>
          </a:xfrm>
        </p:grpSpPr>
        <p:sp>
          <p:nvSpPr>
            <p:cNvPr id="819" name=""/>
            <p:cNvSpPr/>
            <p:nvPr/>
          </p:nvSpPr>
          <p:spPr>
            <a:xfrm>
              <a:off x="6535440" y="13525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32560" y="150696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791320" y="1523880"/>
            <a:ext cx="30456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919240" y="175428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352680" y="1752480"/>
            <a:ext cx="222480" cy="2145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191120" y="1295280"/>
            <a:ext cx="819000" cy="588960"/>
          </a:xfrm>
          <a:custGeom>
            <a:avLst/>
            <a:gdLst/>
            <a:ahLst/>
            <a:rect l="l" t="t" r="r" b="b"/>
            <a:pathLst>
              <a:path w="516" h="371">
                <a:moveTo>
                  <a:pt x="0" y="370"/>
                </a:moveTo>
                <a:lnTo>
                  <a:pt x="424" y="371"/>
                </a:lnTo>
                <a:lnTo>
                  <a:pt x="516" y="371"/>
                </a:lnTo>
                <a:lnTo>
                  <a:pt x="510" y="252"/>
                </a:lnTo>
                <a:lnTo>
                  <a:pt x="466" y="163"/>
                </a:lnTo>
                <a:lnTo>
                  <a:pt x="381" y="1"/>
                </a:lnTo>
                <a:lnTo>
                  <a:pt x="118" y="0"/>
                </a:lnTo>
                <a:lnTo>
                  <a:pt x="6" y="165"/>
                </a:lnTo>
                <a:lnTo>
                  <a:pt x="6" y="224"/>
                </a:lnTo>
                <a:lnTo>
                  <a:pt x="6" y="317"/>
                </a:lnTo>
                <a:lnTo>
                  <a:pt x="0" y="37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4635360" y="1343160"/>
            <a:ext cx="268560" cy="514080"/>
            <a:chOff x="4635360" y="1343160"/>
            <a:chExt cx="268560" cy="514080"/>
          </a:xfrm>
        </p:grpSpPr>
        <p:sp>
          <p:nvSpPr>
            <p:cNvPr id="826" name=""/>
            <p:cNvSpPr/>
            <p:nvPr/>
          </p:nvSpPr>
          <p:spPr>
            <a:xfrm>
              <a:off x="4638240" y="134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35360" y="1497600"/>
              <a:ext cx="26856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3909960" y="152568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14880" y="175428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648320" y="1752480"/>
            <a:ext cx="222120" cy="2145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971800" y="2362320"/>
            <a:ext cx="819000" cy="588960"/>
          </a:xfrm>
          <a:custGeom>
            <a:avLst/>
            <a:gdLst/>
            <a:ahLst/>
            <a:rect l="l" t="t" r="r" b="b"/>
            <a:pathLst>
              <a:path w="516" h="371">
                <a:moveTo>
                  <a:pt x="0" y="370"/>
                </a:moveTo>
                <a:lnTo>
                  <a:pt x="424" y="371"/>
                </a:lnTo>
                <a:lnTo>
                  <a:pt x="516" y="371"/>
                </a:lnTo>
                <a:lnTo>
                  <a:pt x="510" y="252"/>
                </a:lnTo>
                <a:lnTo>
                  <a:pt x="466" y="163"/>
                </a:lnTo>
                <a:lnTo>
                  <a:pt x="381" y="1"/>
                </a:lnTo>
                <a:lnTo>
                  <a:pt x="118" y="0"/>
                </a:lnTo>
                <a:lnTo>
                  <a:pt x="6" y="165"/>
                </a:lnTo>
                <a:lnTo>
                  <a:pt x="6" y="224"/>
                </a:lnTo>
                <a:lnTo>
                  <a:pt x="6" y="317"/>
                </a:lnTo>
                <a:lnTo>
                  <a:pt x="0" y="37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416400" y="2409840"/>
            <a:ext cx="268200" cy="514440"/>
            <a:chOff x="3416400" y="2409840"/>
            <a:chExt cx="268200" cy="514440"/>
          </a:xfrm>
        </p:grpSpPr>
        <p:sp>
          <p:nvSpPr>
            <p:cNvPr id="833" name=""/>
            <p:cNvSpPr/>
            <p:nvPr/>
          </p:nvSpPr>
          <p:spPr>
            <a:xfrm>
              <a:off x="3419280" y="240984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16400" y="256428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2690640" y="259236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95560" y="282096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29000" y="2819520"/>
            <a:ext cx="2221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hdistelmälii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hdistelmäliikennemallin lähtökohd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tkojenyhdistelyjärjestelmä, jota sovelletaan poikkeuksellisen suuressa mittakaavassa: suurkaupungin alueen henkilöautomatkojen suuruiseen volyymi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tkojen yhdistely 8 ja 4 matkustajan autoih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uu: kaikki halukkaat kuljetetaan perille suorinta tie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vittaessa yksi vaihto, jos ajoneuvoa ei muuten saada täyt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elsinki, Espoo, Vantaa, Kauniainen (P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ako 129 kaupunginosaan, 12 min aikajaksoih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hdistelmäliikennemalli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ksi päätöksentekijää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nta: paljonko yhdistelmäliikennettä tue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tkustaja: Minkä matkustusmuodon valit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Kustannuslaskenta 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äästöt (pienhiukkaset,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joneuvo (pääomakulu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jaminen (polttoaine, muut käyttökulu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ika (ruuhkat, odot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ysäköi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uljettaja (kuljettajan palkka, oman ajamisen arvost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atkojen määrä ajoneuvoittai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01924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5105520" cy="52578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172200" y="55627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fraction=50%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antee = whol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084720" y="177336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 1: Miten yhdistelmäliikenne toimisi ja mitä se kokonaisuutena maksais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143"/>
                </a:solidFill>
                <a:latin typeface="Arial"/>
              </a:rPr>
              <a:t>Liikenteen yhteiskunnalliset kustannukset: henkilöauto vs. yhdistelmäliikenne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468360" y="1260360"/>
            <a:ext cx="73976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Yksilöiden erot päätöksentekijöin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324000" y="1306440"/>
            <a:ext cx="5932440" cy="555156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6012000" y="1628640"/>
            <a:ext cx="291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 2: mitä muutosvoimia sisältyy yksilöiden toimintaan päätöksentekijöin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Yhteiskunnalliset kustannukset </a:t>
            </a:r>
            <a:br>
              <a:rPr sz="3400"/>
            </a:br>
            <a:r>
              <a:rPr b="1" lang="fi-FI" sz="2100" spc="-1" strike="noStrike">
                <a:solidFill>
                  <a:srgbClr val="7bc143"/>
                </a:solidFill>
                <a:latin typeface="Arial"/>
              </a:rPr>
              <a:t>(sisältää tukiaiset) erisuuruisilla toiminta-alueilla</a:t>
            </a:r>
            <a:endParaRPr b="1" lang="en-US" sz="21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715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Päätelmi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hdistelmäliikenteellä on mahdollista yhdistellä matkoja siten, että palvelutaso ja joustavuus on samaa luokkaa kuin henkilöauto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onet henkilöautoliikenteen kustannukset (haitat) vähenevät 50 – 70 % mutta kuljettajista syntyy uusi suuri kuluer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ooglen itsestään ajavat autot voivat muuttaa tämän tilan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Jopa lähes 50 % autoilijoista voisi pitää yhdistelmäliikennettä edullisena vaihtoehtona mallioletusten perustee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Järjestelmän voi ajaa ylös alueittain ja näin välttää taloudellisia riskejä: jopa 250 autoa riittää aluksi (Helsingin ydinkeskusta, 82000 asukast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tkustajalla ja yhteiskunnalla on omat tärkeät roolinsa ja yhteispelinsä, mutta edut ovat vahv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elmiä (2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kunnalliset säästöt ovat selvät jo pienehköllä / valtavahkolla (30%) yhdistelmäliikenteen osuudella (eli n.15 % kaikista matkoista kyseisellä alueell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älittömät pienhiukkashyödyt yllättävän pienet </a:t>
            </a:r>
            <a:r>
              <a:rPr b="0" lang="fi-FI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utokannan pienentyminen ja keskittyminen helpottavat uusiutumista jatko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sa hyödyistä (joita ei tässä tarkasteltu) tulee vasta vuosien kuluttu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1df63"/>
                </a:solidFill>
                <a:latin typeface="Wingdings"/>
                <a:ea typeface="Wingdings"/>
              </a:rPr>
              <a:t></a:t>
            </a:r>
            <a:r>
              <a:rPr b="0" lang="en-GB" sz="2600" spc="-1" strike="noStrike">
                <a:solidFill>
                  <a:srgbClr val="c1df63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c1df63"/>
                </a:solidFill>
                <a:latin typeface="Arial"/>
              </a:rPr>
              <a:t>Tärkein vaikutus on päätöksenteon vapausasteiden lisäänty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ärkeimmät viest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1120" indent="-321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mahdollista kasvattaa uusi, nykyistä selvästi tehokkaampi joukkoliikenteen muoto kaupunkeihin yhdistelemällä matko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utkimus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oidaan tehdä ratkaisevasti paremmin mallittamalla yhdessä rajat ylittäviä kokonaisuuks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hteiskunnallist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äätöksenteko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oidaan tehdä ratkaisevasti paremmin käyttämällä tätä mallia ja käymällä sen pohjalta kriittistä, avointa keskustelu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utos tapahtuu yksilötasolla, ja ny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rvitaan muutosagentte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empaan maailmaan pääsemisek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458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hteistyötä haetaan eri aiheissa, mm. ilmasto-politiikka, terveysvaikutusten arviointi kunnissa: </a:t>
            </a:r>
            <a:r>
              <a:rPr b="0" lang="en-US" sz="24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en.opasnet.or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Varauks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ustannus-hyötymallit eivät kuvaa kovin hyvin ihmisten todellista liikennekäyttäytym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kat lähtöpisteessä ja määränpäässä pitäisi selvittää tarkemmin – voi muuttaa tulok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hmisten halukkuutta käyttää yhdistelmäliikennettä pitäisi tutkia erillisellä tutkimuks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kojenyhdistelyjärjestelmän kustannuksia ei arvioi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1df63"/>
                </a:solidFill>
                <a:latin typeface="Arial"/>
              </a:rPr>
              <a:t>Emme tutkineet, kiinnostaisiko yhdistelmäliikenne ihmisiä. Mutta saimme selville, että siitä kannattaisi kiinnost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60360" y="380880"/>
            <a:ext cx="847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Lisätietoj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22200" y="1066680"/>
            <a:ext cx="8514000" cy="55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uomisto JT, Tainio M: An economic way of reducing health, environmental, and other pressures of urban traffic: a decision analysis on trip aggregation. 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MC Public Health, 2005, 5: 123. 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ea typeface="Times New Roman"/>
                <a:hlinkClick r:id="rId2"/>
              </a:rPr>
              <a:t>www.biomedcentral.com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ea typeface="Times New Roman"/>
                <a:hlinkClick r:id="rId3"/>
              </a:rPr>
              <a:t>/1471-2458/5/123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ea typeface="Times New Roman"/>
                <a:hlinkClick r:id="rId4"/>
              </a:rPr>
              <a:t>abs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ni Tuomisto (jouni.tuomisto [at] thl.f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5"/>
              </a:rPr>
              <a:t>http://en.opasnet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6bc9c7"/>
                </a:solidFill>
                <a:uFillTx/>
                <a:latin typeface="Arial"/>
                <a:hlinkClick r:id="rId6"/>
              </a:rPr>
              <a:t>http://en.opasnet.org/w/File:Composite_traffic.AN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ahoitu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11004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LOG_CTXT" descr=""/>
          <p:cNvPicPr/>
          <p:nvPr/>
        </p:nvPicPr>
        <p:blipFill>
          <a:blip r:embed="rId7"/>
          <a:stretch/>
        </p:blipFill>
        <p:spPr>
          <a:xfrm>
            <a:off x="539640" y="5589720"/>
            <a:ext cx="4191120" cy="57312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3614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8"/>
          <a:stretch/>
        </p:blipFill>
        <p:spPr>
          <a:xfrm>
            <a:off x="4859280" y="5373720"/>
            <a:ext cx="3276720" cy="11239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9"/>
          <a:stretch/>
        </p:blipFill>
        <p:spPr>
          <a:xfrm>
            <a:off x="6858000" y="2971800"/>
            <a:ext cx="1798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Tutkimuksen ja päätöksenteon rajapinta. Avoin arvioint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riskinhallinta: yleiskuv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877" name="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2484000" y="2205000"/>
              <a:ext cx="5329800" cy="3527640"/>
              <a:chOff x="2484000" y="2205000"/>
              <a:chExt cx="5329800" cy="3527640"/>
            </a:xfrm>
          </p:grpSpPr>
          <p:grpSp>
            <p:nvGrpSpPr>
              <p:cNvPr id="879" name=""/>
              <p:cNvGrpSpPr/>
              <p:nvPr/>
            </p:nvGrpSpPr>
            <p:grpSpPr>
              <a:xfrm>
                <a:off x="2771280" y="4221000"/>
                <a:ext cx="505440" cy="1440000"/>
                <a:chOff x="2771280" y="4221000"/>
                <a:chExt cx="505440" cy="14400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835000" y="4221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24000" y="4598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286632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02400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277128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18204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280296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02400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7308360" y="3284640"/>
                <a:ext cx="505440" cy="1439640"/>
                <a:chOff x="7308360" y="3284640"/>
                <a:chExt cx="505440" cy="14396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7372080" y="328464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561080" y="366156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740340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56108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730836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71912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734004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56108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2484000" y="2637000"/>
                <a:ext cx="505440" cy="1439640"/>
                <a:chOff x="2484000" y="2637000"/>
                <a:chExt cx="505440" cy="14396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2547720" y="263700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736720" y="3013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257904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73672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248400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89476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251568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73672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3419640" y="2349360"/>
                <a:ext cx="504360" cy="1440000"/>
                <a:chOff x="3419640" y="2349360"/>
                <a:chExt cx="504360" cy="144000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3483000" y="234936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72000" y="272664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351396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7200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341964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82968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>
                  <a:off x="345096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7200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4716000" y="2205000"/>
                <a:ext cx="505440" cy="1440000"/>
                <a:chOff x="4716000" y="2205000"/>
                <a:chExt cx="505440" cy="144000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4779720" y="2205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968720" y="2582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481104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96872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>
                  <a:off x="471600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12676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>
                  <a:off x="474768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96872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796000" y="4292640"/>
                <a:ext cx="504360" cy="1440000"/>
                <a:chOff x="5796000" y="4292640"/>
                <a:chExt cx="504360" cy="14400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859360" y="429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048360" y="466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589032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04836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579600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20604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582732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04836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6372360" y="2852640"/>
                <a:ext cx="504360" cy="1440000"/>
                <a:chOff x="6372360" y="2852640"/>
                <a:chExt cx="504360" cy="144000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6435720" y="285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24720" y="322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646668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2472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637236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78240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640368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62472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943" name="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944" name="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643280" y="4437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500720" y="4149720"/>
                <a:ext cx="647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643280" y="458136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643280" y="472428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643280" y="4869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/>
              <a:ahLst/>
              <a:rect l="l" t="t" r="r" b="b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1032480" y="3680640"/>
            <a:ext cx="1494720" cy="1436040"/>
            <a:chOff x="1032480" y="3680640"/>
            <a:chExt cx="1494720" cy="1436040"/>
          </a:xfrm>
        </p:grpSpPr>
        <p:sp>
          <p:nvSpPr>
            <p:cNvPr id="954" name=""/>
            <p:cNvSpPr/>
            <p:nvPr/>
          </p:nvSpPr>
          <p:spPr>
            <a:xfrm rot="5853000">
              <a:off x="1259280" y="357264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957" name="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/>
              <a:ahLst/>
              <a:rect l="l" t="t" r="r" b="b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/>
              <a:ahLst/>
              <a:rect l="l" t="t" r="r" b="b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960" name="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/>
              <a:ahLst/>
              <a:rect l="l" t="t" r="r" b="b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/>
              <a:ahLst/>
              <a:rect l="l" t="t" r="r" b="b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7bc143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965" name="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/>
              <a:ahLst/>
              <a:rect l="l" t="t" r="r" b="b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/>
              <a:ahLst/>
              <a:rect l="l" t="t" r="r" b="b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/>
              <a:ahLst/>
              <a:rect l="l" t="t" r="r" b="b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määri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hden ihmisen välillä on jaettu  ymmärrys tietystä aiheesta silloin, kun molemmat osaavat selittää mitä toinen ajattelee asiasta ja miks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ääritelmän voi laajentaa ryhmää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nen osaa selittää mitä ajatuksia ja päätelmiä ryhmässä on asia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3800" indent="-24408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ätä ei tarvitse tietää yksilötaso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ytännössä tarvitaan yhdessä tehty kirjallinen kuvaus jaetusta ymmärrykses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kohtainen testi: Onko minun ajatteluni kuvattu kirjallisessa kuvauksessa kaikilta olennaisilta osiltaan? Onko se käsitelty asianmukaisesti päätelmiä kirjoitettaes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906880" cy="596448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kaavi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68360" y="5876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ohjola MV et al: Food and Chemical Toxicology. 2011. In pres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tkimuksen ja päätöksenteon rajapinnan murr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nteinen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mallittaa monimutkaisia ilmiöitä omaksi (ja kollegoiden) tiedoksi. Viisastuttuaan hän osaa kirjoittaa yleistajuisia raportteja poliitiko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ei osallistu politiikkaan (IPCC: me annamme tietoa, emme suosituks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Uusi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tus on jaetun ymmärryksen luomista arvioimalla määrällisesti asioita yhde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liittinen keskustelu on avointa hypoteesien esittämistä siitä, millä toimilla saavutetaan tavoitte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va yhteisö ei tarvitse T-P-rajapint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et roolit säilyvät: tutkijan tehtävänä on osata asiat, poliitikon tehtävänä tehdä päätö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eisiä periaatteita muutoksen edistämiseks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eti kaikki tieto tänne meil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monopolit on murrettava, varsinkin päätöksentekoon vaikuttavan tied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ertaisarviointi tehdään jälkikäteen – jos asia osoittautuu tärkeäk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htä asiaa koskeva tieto pistetään aina yhteen ja samaan paikkaan (tieteen Wikiped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een menetelmä = avoin kriittinen keskustelu hypoteesien vahvuuksista ja hylkäämisestä pitää ottaa käyttöö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eessä (milloin sinun oman julkaisusi hypoteeseja on julkisesti hylätty kriittisen keskustelun tuloksena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tiikassa (on tyhmää äänestää faktoi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elle tiedolle yhtenäinen, avoin tietoraken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n open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ealth impact of radon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4680" y="1413000"/>
            <a:ext cx="9139320" cy="233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6411E-006 L 0.00035 -0.56868 E">
                                      <p:cBhvr>
                                        <p:cTn id="32" dur="20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56868 L 0.00434 -1.32377 E">
                                      <p:cBhvr>
                                        <p:cTn id="36" dur="20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1.32377 L -0.00017 -1.90726 E">
                                      <p:cBhvr>
                                        <p:cTn id="40" dur="20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90726 L -0.00017 -2.57215 E">
                                      <p:cBhvr>
                                        <p:cTn id="44" dur="20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variable in a model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ssio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upunkiliikenne uudelleen ajateltu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hdanto tieteen ja politiikan (tutkimuksen ja päätöksenteon) rajapinnan murrok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men mallituksen id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asnetin de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skustelua: miten tästä eteenpäi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statement and resolution of a discussi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s Pandemrix a safe vacci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143"/>
                </a:solidFill>
                <a:latin typeface="Arial"/>
              </a:rPr>
              <a:t>Opasnet: verkkotyötila avointen arviointien ja jaetun ymmärryksen luomiseen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wiki: käyttöliittymä osallistumiseen ja kaikkiin toiminnallisuuks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ustelu- ja kommentointisivut: keskustelua varsinaises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ta: tietokanta kaikenlaisen taulukkodatan tallentamiseen ja käyttä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-tools: tilasto- ja laskentaohjelma R kaikkeen laskentaan ja tulosten kuvaa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tiedosto: tiedostonhallintajärjestelmä taustadokumenteille ja muille tiedostoil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How Opasnet helps in assessments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41200" y="1484280"/>
            <a:ext cx="6621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s://docs.google.com/drawings/d/1f1s1drjo8qMJ-vWR3BQgsfRbH2DO0E43Xb01eRddWcg/edit?hl=en_GB&amp;authkey=CN_oqbYK&amp;pli=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533520" y="1341360"/>
            <a:ext cx="7657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he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Department of Environmental Health had officially nothing to do with narcolepsy, because the Vaccination Department was in char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owever, we found this as a good case study for our university class Decision Analysis and Risk Management </a:t>
            </a:r>
            <a:r>
              <a:rPr b="0" lang="fi-FI" sz="22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en.opasnet.org/w/Darm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e course was in March-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1 MSc students (mostly toxicology), 2 env health researchers, 1 mode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An online assessment was performed: ”What are the public health impacts of different swine flu vaccination decisions in 2009?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http://en.opasnet.org/w/Assessment_of_the_health_impacts_of_H1N1_vaccin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Influence diagram of the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8820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Vaccination decision: results (mean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028000" cy="601992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539640" y="1628640"/>
            <a:ext cx="20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f you are risk neutral, you probably want to go for the lowest expected out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900000" y="3500280"/>
            <a:ext cx="1429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Vaccination decision: uncertainti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0" y="925560"/>
            <a:ext cx="8317080" cy="593244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3708360" y="5157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f you are risk averse, you don’t want to see these long 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3564000" y="580536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een perimmäinen olemus? (1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093080" cy="471636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4932360" y="616572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© Wikip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een perimmäinen olemus? (2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543640" cy="45655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4356000" y="6237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© Risto Järvinen, Skep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oimintatapa sessio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eyttäkää heti jos tulee kommentoitavaa. Keskustelulle on varattu aika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een menetelmä käytössä: mitä ei yhteisö haasta, se on toistaiseksi hyväksytty hypotee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ukku ylös ja peukku alas ovat käytö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ämäkin sessio on osa prosessia, joka tutkii aihetta ”Mallit tulevaisuuden ymmärtämisessä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von jonkun tekevän muistiinpanoja keskustelusta ja sessio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istiinpanot laitetaan sivul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.opasnet.org/fi/Mallit_tulevaisuuden_ymmärtämise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o-olio ja se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468360" y="-1440"/>
            <a:ext cx="838836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021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3469E-006 L 0.18907 2.53469E-006 E">
                                      <p:cBhvr>
                                        <p:cTn id="52" dur="2000" fill="hold"/>
                                        <p:tgtEl>
                                          <p:spTgt spid="10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042920" y="0"/>
            <a:ext cx="2952720" cy="374508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o-olion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sällö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eskustelu osana </a:t>
            </a:r>
            <a:br>
              <a:rPr sz="3400"/>
            </a:b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-olio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468360" y="-1440"/>
            <a:ext cx="8389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26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3469E-006 L 0.17118 2.53469E-006 E">
                                      <p:cBhvr>
                                        <p:cTn id="63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19981E-006 L -0.00382 0.16397 E">
                                      <p:cBhvr>
                                        <p:cTn id="70" dur="2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1042920" y="0"/>
            <a:ext cx="2952720" cy="374508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o-olion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sällö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eskustelun </a:t>
            </a:r>
            <a:br>
              <a:rPr sz="3400"/>
            </a:b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jäsentä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35280" y="1197000"/>
            <a:ext cx="176364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skustelun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1138320" y="623880"/>
            <a:ext cx="68673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31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3469E-006 L -0.16215 -0.24931 E">
                                      <p:cBhvr>
                                        <p:cTn id="78" dur="20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1656E-006 L -0.08958 0.37928 E">
                                      <p:cBhvr>
                                        <p:cTn id="85" dur="20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19981E-006 L -0.00382 0.16397 E">
                                      <p:cBhvr>
                                        <p:cTn id="89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een prosessi tieto-olion näkökulm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55640" y="1413000"/>
            <a:ext cx="2952720" cy="37447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3600360" y="1484280"/>
            <a:ext cx="5543640" cy="4565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Riippuvuu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2"/>
          <a:stretch/>
        </p:blipFill>
        <p:spPr>
          <a:xfrm>
            <a:off x="3564000" y="981000"/>
            <a:ext cx="5580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03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74561E-006 L -0.39948 0.10731 E">
                                      <p:cBhvr>
                                        <p:cTn id="100" dur="2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03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9278E-007 L -0.37014 -0.20675 E">
                                      <p:cBhvr>
                                        <p:cTn id="110" dur="20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Energiantuotannon kasvihuonekaasupäästöt Suomessa ja niiden riippuvuudet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6360" cy="119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0104 -0.72754 E">
                                      <p:cBhvr>
                                        <p:cTn id="116" dur="2000" fill="hold"/>
                                        <p:tgtEl>
                                          <p:spTgt spid="10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o-olioiden riippuvuud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Riippuvuu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932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Riippuvuu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2484000" y="4292640"/>
            <a:ext cx="3816360" cy="93672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liopohjainen mall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68360" y="1916280"/>
            <a:ext cx="1366920" cy="165708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932360" y="1916280"/>
            <a:ext cx="1295280" cy="1800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1834920" y="2708280"/>
            <a:ext cx="3097080" cy="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924360" y="3789360"/>
            <a:ext cx="1295280" cy="180036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 flipV="1">
            <a:off x="1763640" y="3213000"/>
            <a:ext cx="2232000" cy="100800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liopohjainen mallijärjes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547640" y="2133720"/>
            <a:ext cx="64800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364000" y="2924280"/>
            <a:ext cx="681120" cy="8604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924360" y="3789360"/>
            <a:ext cx="681120" cy="8604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08000" y="3933720"/>
            <a:ext cx="576360" cy="71928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203640" y="2060640"/>
            <a:ext cx="64764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04000" y="1916280"/>
            <a:ext cx="64764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804000" y="3139920"/>
            <a:ext cx="647640" cy="79236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411280" y="3284640"/>
            <a:ext cx="64800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084720" y="4437000"/>
            <a:ext cx="648000" cy="79236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332000" y="4508640"/>
            <a:ext cx="64764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667640" y="4653000"/>
            <a:ext cx="64764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050920" y="2852640"/>
            <a:ext cx="433440" cy="50508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35280" y="2852640"/>
            <a:ext cx="432000" cy="93672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059280" y="3789360"/>
            <a:ext cx="865080" cy="36036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572000" y="3573360"/>
            <a:ext cx="792000" cy="43200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867280" y="3716280"/>
            <a:ext cx="433440" cy="79236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572000" y="4437000"/>
            <a:ext cx="1584360" cy="43200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08720" y="3860640"/>
            <a:ext cx="503280" cy="79236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5940000" y="2492280"/>
            <a:ext cx="863640" cy="50508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093080" y="2708280"/>
            <a:ext cx="0" cy="43344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732720" y="4941720"/>
            <a:ext cx="863640" cy="7164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voimen saatavuud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to jostakin ilmiöstä on avoimesti saatavilla jos ja vain j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dunmies voi kymmenessä minuutis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ytä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 vartis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mmärtä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teellisesti pätevän, ajankohtaisen kuvauksen ilmiön tilasta ja kuvauksen siitä, miten tilanne muuttuisi jos ilmiön jonk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ytekijän vaiku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uttuisi,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ma tieto on koneluettavassa muodossa standardirajapinnan yli internetissä vapaan käyttöoikeuden piiri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ostusteor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ha mittaa hyvin asioita, jotka vähenevät itseltä kun niitä antaa pois (tava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vostus mittaa hyvin asioita, jota voi monistaa eikä se vähene (tie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enkilö saa muilta arvostuspisteitä (onoreita) sen perusteella, kuinka paljon ja kuinka hienoa tietoa hän on jakanut vapaaseen käyttöö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äyttökoht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olitiikan mallittaminen joukkoyhteistyön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eellinen meriitti (julkaisut historia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ähkökirjojen tai tiedonvälityksen käyttövo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i luultavasti auta vuokranmaksu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ohtaa ainakin aluksi järjestelmään, jossa tietoa tuottavat ne, joilla on perustoimeentulo muualta ja jotka hakevat sisältöä elämääns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esti myöhemmin arvostuksella voi saada rahanarvoisia asio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559040"/>
            <a:ext cx="82072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Yhdistelmäliikenne</a:t>
            </a:r>
            <a:br>
              <a:rPr sz="28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 uusi näkökulma liikenteeseen ja terveyte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ouni Tuomisto, Marko Tai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Ympäristöterveyden osa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THL, Kuop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pitäisi organisoitua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Wiki”puolueen” järjestäytyminen eduskuntavaaleih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ailmanpelastuksen opetusohjelman perustaminen Otavan opist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ktivistiryhmien perustaminen oman mielenkiinnon kohteena olevan asian avoimeen, kriittiseen käsittelyy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ktivistiryhmien vetäjien kouluttami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si liikenne ympäristöterveyden tutkimuskohteena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96680"/>
            <a:ext cx="821844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ienhiukkaset keskeinen ongelma (CAFE: yli </a:t>
            </a:r>
            <a:br>
              <a:rPr sz="2600"/>
            </a:b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300 000 ennenaikaista kuolemaa/vuosi Euroopas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ikenteen merkitys korostunut ja korostu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ikennemäärät lisääntyv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istus lähellä ihmisi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ääntyvä näyttö dieselhiukkasten haito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ikenteen muut hait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nettomuu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uh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685800" y="1295280"/>
            <a:ext cx="1828800" cy="685800"/>
            <a:chOff x="685800" y="1295280"/>
            <a:chExt cx="1828800" cy="685800"/>
          </a:xfrm>
        </p:grpSpPr>
        <p:sp>
          <p:nvSpPr>
            <p:cNvPr id="112" name=""/>
            <p:cNvSpPr/>
            <p:nvPr/>
          </p:nvSpPr>
          <p:spPr>
            <a:xfrm>
              <a:off x="68580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34640" y="1766880"/>
              <a:ext cx="222840" cy="21420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8640" y="1766880"/>
              <a:ext cx="222840" cy="21420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238880" y="2971800"/>
            <a:ext cx="457200" cy="837720"/>
            <a:chOff x="7238880" y="2971800"/>
            <a:chExt cx="457200" cy="837720"/>
          </a:xfrm>
        </p:grpSpPr>
        <p:sp>
          <p:nvSpPr>
            <p:cNvPr id="116" name=""/>
            <p:cNvSpPr/>
            <p:nvPr/>
          </p:nvSpPr>
          <p:spPr>
            <a:xfrm>
              <a:off x="7375320" y="2971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8880" y="3201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39800" y="1341360"/>
            <a:ext cx="268200" cy="514440"/>
            <a:chOff x="1639800" y="1341360"/>
            <a:chExt cx="268200" cy="514440"/>
          </a:xfrm>
        </p:grpSpPr>
        <p:sp>
          <p:nvSpPr>
            <p:cNvPr id="119" name=""/>
            <p:cNvSpPr/>
            <p:nvPr/>
          </p:nvSpPr>
          <p:spPr>
            <a:xfrm>
              <a:off x="16426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98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480" y="1447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295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676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19520" y="1295280"/>
            <a:ext cx="1828800" cy="685800"/>
            <a:chOff x="2819520" y="1295280"/>
            <a:chExt cx="1828800" cy="685800"/>
          </a:xfrm>
        </p:grpSpPr>
        <p:sp>
          <p:nvSpPr>
            <p:cNvPr id="129" name=""/>
            <p:cNvSpPr/>
            <p:nvPr/>
          </p:nvSpPr>
          <p:spPr>
            <a:xfrm>
              <a:off x="281952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68360" y="1766880"/>
              <a:ext cx="222840" cy="214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2360" y="1766880"/>
              <a:ext cx="222840" cy="214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773520" y="1341360"/>
            <a:ext cx="268200" cy="514440"/>
            <a:chOff x="3773520" y="1341360"/>
            <a:chExt cx="268200" cy="514440"/>
          </a:xfrm>
        </p:grpSpPr>
        <p:sp>
          <p:nvSpPr>
            <p:cNvPr id="133" name=""/>
            <p:cNvSpPr/>
            <p:nvPr/>
          </p:nvSpPr>
          <p:spPr>
            <a:xfrm>
              <a:off x="377640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352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743200" y="1447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12952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16765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4343400"/>
            <a:ext cx="1828800" cy="685800"/>
            <a:chOff x="685800" y="4343400"/>
            <a:chExt cx="1828800" cy="685800"/>
          </a:xfrm>
        </p:grpSpPr>
        <p:sp>
          <p:nvSpPr>
            <p:cNvPr id="143" name=""/>
            <p:cNvSpPr/>
            <p:nvPr/>
          </p:nvSpPr>
          <p:spPr>
            <a:xfrm>
              <a:off x="685800" y="4343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34640" y="4815000"/>
              <a:ext cx="222840" cy="214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8640" y="4815000"/>
              <a:ext cx="222840" cy="214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39800" y="4389480"/>
            <a:ext cx="268200" cy="514440"/>
            <a:chOff x="1639800" y="4389480"/>
            <a:chExt cx="268200" cy="514440"/>
          </a:xfrm>
        </p:grpSpPr>
        <p:sp>
          <p:nvSpPr>
            <p:cNvPr id="147" name=""/>
            <p:cNvSpPr/>
            <p:nvPr/>
          </p:nvSpPr>
          <p:spPr>
            <a:xfrm>
              <a:off x="1642680" y="4389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39800" y="4543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09480" y="4495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191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343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114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4191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4724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086600" y="1295280"/>
            <a:ext cx="1828800" cy="685800"/>
            <a:chOff x="7086600" y="1295280"/>
            <a:chExt cx="1828800" cy="685800"/>
          </a:xfrm>
        </p:grpSpPr>
        <p:sp>
          <p:nvSpPr>
            <p:cNvPr id="157" name=""/>
            <p:cNvSpPr/>
            <p:nvPr/>
          </p:nvSpPr>
          <p:spPr>
            <a:xfrm>
              <a:off x="708660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35440" y="1766880"/>
              <a:ext cx="222840" cy="2142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09440" y="1766880"/>
              <a:ext cx="222840" cy="2142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40600" y="1341360"/>
            <a:ext cx="268200" cy="514440"/>
            <a:chOff x="8040600" y="1341360"/>
            <a:chExt cx="268200" cy="514440"/>
          </a:xfrm>
        </p:grpSpPr>
        <p:sp>
          <p:nvSpPr>
            <p:cNvPr id="161" name=""/>
            <p:cNvSpPr/>
            <p:nvPr/>
          </p:nvSpPr>
          <p:spPr>
            <a:xfrm>
              <a:off x="80434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406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010280" y="1447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1295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724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1676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5800" y="2209680"/>
            <a:ext cx="1828800" cy="685800"/>
            <a:chOff x="685800" y="2209680"/>
            <a:chExt cx="1828800" cy="685800"/>
          </a:xfrm>
        </p:grpSpPr>
        <p:sp>
          <p:nvSpPr>
            <p:cNvPr id="171" name=""/>
            <p:cNvSpPr/>
            <p:nvPr/>
          </p:nvSpPr>
          <p:spPr>
            <a:xfrm>
              <a:off x="68580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34640" y="2681280"/>
              <a:ext cx="222840" cy="2142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08640" y="2681280"/>
              <a:ext cx="222840" cy="2142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639800" y="2255760"/>
            <a:ext cx="268200" cy="514440"/>
            <a:chOff x="1639800" y="2255760"/>
            <a:chExt cx="268200" cy="514440"/>
          </a:xfrm>
        </p:grpSpPr>
        <p:sp>
          <p:nvSpPr>
            <p:cNvPr id="175" name=""/>
            <p:cNvSpPr/>
            <p:nvPr/>
          </p:nvSpPr>
          <p:spPr>
            <a:xfrm>
              <a:off x="164268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980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09480" y="2362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1981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2057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590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819520" y="2209680"/>
            <a:ext cx="1828800" cy="685800"/>
            <a:chOff x="2819520" y="2209680"/>
            <a:chExt cx="1828800" cy="685800"/>
          </a:xfrm>
        </p:grpSpPr>
        <p:sp>
          <p:nvSpPr>
            <p:cNvPr id="185" name=""/>
            <p:cNvSpPr/>
            <p:nvPr/>
          </p:nvSpPr>
          <p:spPr>
            <a:xfrm>
              <a:off x="281952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68360" y="2681280"/>
              <a:ext cx="222840" cy="214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2360" y="2681280"/>
              <a:ext cx="222840" cy="214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773520" y="2255760"/>
            <a:ext cx="268200" cy="514440"/>
            <a:chOff x="3773520" y="2255760"/>
            <a:chExt cx="268200" cy="514440"/>
          </a:xfrm>
        </p:grpSpPr>
        <p:sp>
          <p:nvSpPr>
            <p:cNvPr id="189" name=""/>
            <p:cNvSpPr/>
            <p:nvPr/>
          </p:nvSpPr>
          <p:spPr>
            <a:xfrm>
              <a:off x="377640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7352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7432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29200" y="2209680"/>
            <a:ext cx="1828800" cy="685800"/>
            <a:chOff x="5029200" y="2209680"/>
            <a:chExt cx="1828800" cy="685800"/>
          </a:xfrm>
        </p:grpSpPr>
        <p:sp>
          <p:nvSpPr>
            <p:cNvPr id="199" name=""/>
            <p:cNvSpPr/>
            <p:nvPr/>
          </p:nvSpPr>
          <p:spPr>
            <a:xfrm>
              <a:off x="502920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78040" y="2681280"/>
              <a:ext cx="222840" cy="21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2040" y="2681280"/>
              <a:ext cx="222840" cy="21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983200" y="2255760"/>
            <a:ext cx="268200" cy="514440"/>
            <a:chOff x="5983200" y="2255760"/>
            <a:chExt cx="268200" cy="514440"/>
          </a:xfrm>
        </p:grpSpPr>
        <p:sp>
          <p:nvSpPr>
            <p:cNvPr id="203" name=""/>
            <p:cNvSpPr/>
            <p:nvPr/>
          </p:nvSpPr>
          <p:spPr>
            <a:xfrm>
              <a:off x="598608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320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952880" y="2362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1981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2057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2590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162920" y="2209680"/>
            <a:ext cx="1828800" cy="685800"/>
            <a:chOff x="7162920" y="2209680"/>
            <a:chExt cx="1828800" cy="685800"/>
          </a:xfrm>
        </p:grpSpPr>
        <p:sp>
          <p:nvSpPr>
            <p:cNvPr id="213" name=""/>
            <p:cNvSpPr/>
            <p:nvPr/>
          </p:nvSpPr>
          <p:spPr>
            <a:xfrm>
              <a:off x="716292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11760" y="2681280"/>
              <a:ext cx="222840" cy="2142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85760" y="2681280"/>
              <a:ext cx="222840" cy="2142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116920" y="2255760"/>
            <a:ext cx="268200" cy="514440"/>
            <a:chOff x="8116920" y="2255760"/>
            <a:chExt cx="268200" cy="514440"/>
          </a:xfrm>
        </p:grpSpPr>
        <p:sp>
          <p:nvSpPr>
            <p:cNvPr id="217" name=""/>
            <p:cNvSpPr/>
            <p:nvPr/>
          </p:nvSpPr>
          <p:spPr>
            <a:xfrm>
              <a:off x="811980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1692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0866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6868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296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62120" y="3048120"/>
            <a:ext cx="1828800" cy="685800"/>
            <a:chOff x="762120" y="3048120"/>
            <a:chExt cx="1828800" cy="685800"/>
          </a:xfrm>
        </p:grpSpPr>
        <p:sp>
          <p:nvSpPr>
            <p:cNvPr id="227" name=""/>
            <p:cNvSpPr/>
            <p:nvPr/>
          </p:nvSpPr>
          <p:spPr>
            <a:xfrm>
              <a:off x="762120" y="304812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10960" y="3519720"/>
              <a:ext cx="222840" cy="2142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84960" y="3519720"/>
              <a:ext cx="222840" cy="2142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716120" y="3094200"/>
            <a:ext cx="268200" cy="514080"/>
            <a:chOff x="1716120" y="3094200"/>
            <a:chExt cx="268200" cy="514080"/>
          </a:xfrm>
        </p:grpSpPr>
        <p:sp>
          <p:nvSpPr>
            <p:cNvPr id="231" name=""/>
            <p:cNvSpPr/>
            <p:nvPr/>
          </p:nvSpPr>
          <p:spPr>
            <a:xfrm>
              <a:off x="1719000" y="30942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6120" y="324864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85800" y="3200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3048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429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19520" y="3124080"/>
            <a:ext cx="1828800" cy="685800"/>
            <a:chOff x="2819520" y="3124080"/>
            <a:chExt cx="1828800" cy="685800"/>
          </a:xfrm>
        </p:grpSpPr>
        <p:sp>
          <p:nvSpPr>
            <p:cNvPr id="241" name=""/>
            <p:cNvSpPr/>
            <p:nvPr/>
          </p:nvSpPr>
          <p:spPr>
            <a:xfrm>
              <a:off x="2819520" y="3124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8360" y="3595680"/>
              <a:ext cx="222840" cy="2142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2360" y="3595680"/>
              <a:ext cx="222840" cy="2142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773520" y="3170160"/>
            <a:ext cx="268200" cy="514440"/>
            <a:chOff x="3773520" y="3170160"/>
            <a:chExt cx="268200" cy="514440"/>
          </a:xfrm>
        </p:grpSpPr>
        <p:sp>
          <p:nvSpPr>
            <p:cNvPr id="245" name=""/>
            <p:cNvSpPr/>
            <p:nvPr/>
          </p:nvSpPr>
          <p:spPr>
            <a:xfrm>
              <a:off x="3776400" y="3170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73520" y="3324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743200" y="3276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3124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3505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29200" y="3124080"/>
            <a:ext cx="1828800" cy="685800"/>
            <a:chOff x="5029200" y="3124080"/>
            <a:chExt cx="1828800" cy="685800"/>
          </a:xfrm>
        </p:grpSpPr>
        <p:sp>
          <p:nvSpPr>
            <p:cNvPr id="255" name=""/>
            <p:cNvSpPr/>
            <p:nvPr/>
          </p:nvSpPr>
          <p:spPr>
            <a:xfrm>
              <a:off x="5029200" y="3124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78040" y="3595680"/>
              <a:ext cx="222840" cy="214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52040" y="3595680"/>
              <a:ext cx="222840" cy="214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983200" y="3170160"/>
            <a:ext cx="268200" cy="514440"/>
            <a:chOff x="5983200" y="3170160"/>
            <a:chExt cx="268200" cy="514440"/>
          </a:xfrm>
        </p:grpSpPr>
        <p:sp>
          <p:nvSpPr>
            <p:cNvPr id="259" name=""/>
            <p:cNvSpPr/>
            <p:nvPr/>
          </p:nvSpPr>
          <p:spPr>
            <a:xfrm>
              <a:off x="5986080" y="3170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3200" y="3324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952880" y="3276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3124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2895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971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3505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19520" y="4267080"/>
            <a:ext cx="1828800" cy="685800"/>
            <a:chOff x="2819520" y="4267080"/>
            <a:chExt cx="1828800" cy="685800"/>
          </a:xfrm>
        </p:grpSpPr>
        <p:sp>
          <p:nvSpPr>
            <p:cNvPr id="269" name=""/>
            <p:cNvSpPr/>
            <p:nvPr/>
          </p:nvSpPr>
          <p:spPr>
            <a:xfrm>
              <a:off x="2819520" y="4267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68360" y="47386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2360" y="47386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773520" y="4313160"/>
            <a:ext cx="268200" cy="514440"/>
            <a:chOff x="3773520" y="4313160"/>
            <a:chExt cx="268200" cy="514440"/>
          </a:xfrm>
        </p:grpSpPr>
        <p:sp>
          <p:nvSpPr>
            <p:cNvPr id="273" name=""/>
            <p:cNvSpPr/>
            <p:nvPr/>
          </p:nvSpPr>
          <p:spPr>
            <a:xfrm>
              <a:off x="3776400" y="431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73520" y="4467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743200" y="4419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4267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4648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43600" y="1143000"/>
            <a:ext cx="457200" cy="837720"/>
            <a:chOff x="5943600" y="1143000"/>
            <a:chExt cx="457200" cy="837720"/>
          </a:xfrm>
        </p:grpSpPr>
        <p:sp>
          <p:nvSpPr>
            <p:cNvPr id="283" name=""/>
            <p:cNvSpPr/>
            <p:nvPr/>
          </p:nvSpPr>
          <p:spPr>
            <a:xfrm>
              <a:off x="6080040" y="11430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43600" y="13726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952880" y="4114800"/>
            <a:ext cx="457200" cy="837720"/>
            <a:chOff x="4952880" y="4114800"/>
            <a:chExt cx="457200" cy="837720"/>
          </a:xfrm>
        </p:grpSpPr>
        <p:sp>
          <p:nvSpPr>
            <p:cNvPr id="286" name=""/>
            <p:cNvSpPr/>
            <p:nvPr/>
          </p:nvSpPr>
          <p:spPr>
            <a:xfrm>
              <a:off x="5089320" y="4114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4344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848720" y="2971800"/>
            <a:ext cx="457200" cy="837720"/>
            <a:chOff x="7848720" y="2971800"/>
            <a:chExt cx="457200" cy="837720"/>
          </a:xfrm>
        </p:grpSpPr>
        <p:sp>
          <p:nvSpPr>
            <p:cNvPr id="289" name=""/>
            <p:cNvSpPr/>
            <p:nvPr/>
          </p:nvSpPr>
          <p:spPr>
            <a:xfrm>
              <a:off x="7985160" y="2971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48720" y="3201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295280" y="1371600"/>
            <a:ext cx="268560" cy="514440"/>
            <a:chOff x="1295280" y="1371600"/>
            <a:chExt cx="268560" cy="514440"/>
          </a:xfrm>
        </p:grpSpPr>
        <p:sp>
          <p:nvSpPr>
            <p:cNvPr id="292" name=""/>
            <p:cNvSpPr/>
            <p:nvPr/>
          </p:nvSpPr>
          <p:spPr>
            <a:xfrm>
              <a:off x="1298160" y="13716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152604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867280" y="4267080"/>
            <a:ext cx="1828800" cy="685800"/>
            <a:chOff x="5867280" y="4267080"/>
            <a:chExt cx="1828800" cy="685800"/>
          </a:xfrm>
        </p:grpSpPr>
        <p:sp>
          <p:nvSpPr>
            <p:cNvPr id="295" name=""/>
            <p:cNvSpPr/>
            <p:nvPr/>
          </p:nvSpPr>
          <p:spPr>
            <a:xfrm>
              <a:off x="5867280" y="4267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16120" y="4738680"/>
              <a:ext cx="222840" cy="2142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0120" y="4738680"/>
              <a:ext cx="222840" cy="2142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821640" y="4313160"/>
            <a:ext cx="268200" cy="514440"/>
            <a:chOff x="6821640" y="4313160"/>
            <a:chExt cx="268200" cy="514440"/>
          </a:xfrm>
        </p:grpSpPr>
        <p:sp>
          <p:nvSpPr>
            <p:cNvPr id="299" name=""/>
            <p:cNvSpPr/>
            <p:nvPr/>
          </p:nvSpPr>
          <p:spPr>
            <a:xfrm>
              <a:off x="6824520" y="431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21640" y="4467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791320" y="4419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4114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4267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4038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4648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62120" y="5486400"/>
            <a:ext cx="1828800" cy="685800"/>
            <a:chOff x="762120" y="5486400"/>
            <a:chExt cx="1828800" cy="685800"/>
          </a:xfrm>
        </p:grpSpPr>
        <p:sp>
          <p:nvSpPr>
            <p:cNvPr id="309" name=""/>
            <p:cNvSpPr/>
            <p:nvPr/>
          </p:nvSpPr>
          <p:spPr>
            <a:xfrm>
              <a:off x="762120" y="5486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10960" y="595800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84960" y="595800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16120" y="5532480"/>
            <a:ext cx="268200" cy="514440"/>
            <a:chOff x="1716120" y="5532480"/>
            <a:chExt cx="268200" cy="514440"/>
          </a:xfrm>
        </p:grpSpPr>
        <p:sp>
          <p:nvSpPr>
            <p:cNvPr id="313" name=""/>
            <p:cNvSpPr/>
            <p:nvPr/>
          </p:nvSpPr>
          <p:spPr>
            <a:xfrm>
              <a:off x="1719000" y="5532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16120" y="5686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85800" y="5638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486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58672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971800" y="5486400"/>
            <a:ext cx="1828800" cy="685800"/>
            <a:chOff x="2971800" y="5486400"/>
            <a:chExt cx="1828800" cy="685800"/>
          </a:xfrm>
        </p:grpSpPr>
        <p:sp>
          <p:nvSpPr>
            <p:cNvPr id="323" name=""/>
            <p:cNvSpPr/>
            <p:nvPr/>
          </p:nvSpPr>
          <p:spPr>
            <a:xfrm>
              <a:off x="2971800" y="5486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0640" y="595800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94640" y="595800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925800" y="5532480"/>
            <a:ext cx="268200" cy="514440"/>
            <a:chOff x="3925800" y="5532480"/>
            <a:chExt cx="268200" cy="514440"/>
          </a:xfrm>
        </p:grpSpPr>
        <p:sp>
          <p:nvSpPr>
            <p:cNvPr id="327" name=""/>
            <p:cNvSpPr/>
            <p:nvPr/>
          </p:nvSpPr>
          <p:spPr>
            <a:xfrm>
              <a:off x="3928680" y="5532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25800" y="5686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895480" y="5638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5486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576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5257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38480" y="5334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5867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400800" y="5410080"/>
            <a:ext cx="1828800" cy="685800"/>
            <a:chOff x="6400800" y="5410080"/>
            <a:chExt cx="1828800" cy="685800"/>
          </a:xfrm>
        </p:grpSpPr>
        <p:sp>
          <p:nvSpPr>
            <p:cNvPr id="337" name=""/>
            <p:cNvSpPr/>
            <p:nvPr/>
          </p:nvSpPr>
          <p:spPr>
            <a:xfrm>
              <a:off x="6400800" y="5410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9640" y="5881680"/>
              <a:ext cx="222840" cy="214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23640" y="5881680"/>
              <a:ext cx="222840" cy="214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354800" y="5456160"/>
            <a:ext cx="268200" cy="514440"/>
            <a:chOff x="7354800" y="5456160"/>
            <a:chExt cx="268200" cy="514440"/>
          </a:xfrm>
        </p:grpSpPr>
        <p:sp>
          <p:nvSpPr>
            <p:cNvPr id="341" name=""/>
            <p:cNvSpPr/>
            <p:nvPr/>
          </p:nvSpPr>
          <p:spPr>
            <a:xfrm>
              <a:off x="7357680" y="5456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54800" y="5610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24480" y="5562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5410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5181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924680" y="5181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67480" y="5257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791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105520" y="1066680"/>
            <a:ext cx="457200" cy="838080"/>
            <a:chOff x="5105520" y="1066680"/>
            <a:chExt cx="457200" cy="838080"/>
          </a:xfrm>
        </p:grpSpPr>
        <p:sp>
          <p:nvSpPr>
            <p:cNvPr id="351" name=""/>
            <p:cNvSpPr/>
            <p:nvPr/>
          </p:nvSpPr>
          <p:spPr>
            <a:xfrm>
              <a:off x="5241960" y="1066680"/>
              <a:ext cx="262080" cy="2444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5520" y="1296360"/>
              <a:ext cx="457200" cy="60840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4120" y="5257800"/>
            <a:ext cx="457200" cy="837720"/>
            <a:chOff x="5334120" y="5257800"/>
            <a:chExt cx="457200" cy="837720"/>
          </a:xfrm>
        </p:grpSpPr>
        <p:sp>
          <p:nvSpPr>
            <p:cNvPr id="354" name=""/>
            <p:cNvSpPr/>
            <p:nvPr/>
          </p:nvSpPr>
          <p:spPr>
            <a:xfrm>
              <a:off x="5470560" y="5257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4120" y="5487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219320" y="4572000"/>
            <a:ext cx="30456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2438280"/>
            <a:ext cx="30492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638680" y="2286000"/>
            <a:ext cx="268560" cy="514440"/>
            <a:chOff x="5638680" y="2286000"/>
            <a:chExt cx="268560" cy="514440"/>
          </a:xfrm>
        </p:grpSpPr>
        <p:sp>
          <p:nvSpPr>
            <p:cNvPr id="359" name=""/>
            <p:cNvSpPr/>
            <p:nvPr/>
          </p:nvSpPr>
          <p:spPr>
            <a:xfrm>
              <a:off x="5641560" y="22860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244044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371600" y="5562720"/>
            <a:ext cx="268200" cy="514080"/>
            <a:chOff x="1371600" y="5562720"/>
            <a:chExt cx="268200" cy="514080"/>
          </a:xfrm>
        </p:grpSpPr>
        <p:sp>
          <p:nvSpPr>
            <p:cNvPr id="362" name=""/>
            <p:cNvSpPr/>
            <p:nvPr/>
          </p:nvSpPr>
          <p:spPr>
            <a:xfrm>
              <a:off x="1374480" y="55627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71600" y="571716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Nykyinen henkilöautolii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685800" y="1295280"/>
            <a:ext cx="1828800" cy="685800"/>
            <a:chOff x="685800" y="1295280"/>
            <a:chExt cx="1828800" cy="685800"/>
          </a:xfrm>
        </p:grpSpPr>
        <p:sp>
          <p:nvSpPr>
            <p:cNvPr id="366" name=""/>
            <p:cNvSpPr/>
            <p:nvPr/>
          </p:nvSpPr>
          <p:spPr>
            <a:xfrm>
              <a:off x="68580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34640" y="1766880"/>
              <a:ext cx="222840" cy="21420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08640" y="1766880"/>
              <a:ext cx="222840" cy="21420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238880" y="2971800"/>
            <a:ext cx="457200" cy="837720"/>
            <a:chOff x="7238880" y="2971800"/>
            <a:chExt cx="457200" cy="837720"/>
          </a:xfrm>
        </p:grpSpPr>
        <p:sp>
          <p:nvSpPr>
            <p:cNvPr id="370" name=""/>
            <p:cNvSpPr/>
            <p:nvPr/>
          </p:nvSpPr>
          <p:spPr>
            <a:xfrm>
              <a:off x="7375320" y="2971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38880" y="3201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639800" y="1341360"/>
            <a:ext cx="268200" cy="514440"/>
            <a:chOff x="1639800" y="1341360"/>
            <a:chExt cx="268200" cy="514440"/>
          </a:xfrm>
        </p:grpSpPr>
        <p:sp>
          <p:nvSpPr>
            <p:cNvPr id="373" name=""/>
            <p:cNvSpPr/>
            <p:nvPr/>
          </p:nvSpPr>
          <p:spPr>
            <a:xfrm>
              <a:off x="16426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398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09480" y="1447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1295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1676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819520" y="1295280"/>
            <a:ext cx="1828800" cy="685800"/>
            <a:chOff x="2819520" y="1295280"/>
            <a:chExt cx="1828800" cy="685800"/>
          </a:xfrm>
        </p:grpSpPr>
        <p:sp>
          <p:nvSpPr>
            <p:cNvPr id="383" name=""/>
            <p:cNvSpPr/>
            <p:nvPr/>
          </p:nvSpPr>
          <p:spPr>
            <a:xfrm>
              <a:off x="281952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68360" y="1766880"/>
              <a:ext cx="222840" cy="214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2360" y="1766880"/>
              <a:ext cx="222840" cy="214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773520" y="1341360"/>
            <a:ext cx="268200" cy="514440"/>
            <a:chOff x="3773520" y="1341360"/>
            <a:chExt cx="268200" cy="514440"/>
          </a:xfrm>
        </p:grpSpPr>
        <p:sp>
          <p:nvSpPr>
            <p:cNvPr id="387" name=""/>
            <p:cNvSpPr/>
            <p:nvPr/>
          </p:nvSpPr>
          <p:spPr>
            <a:xfrm>
              <a:off x="377640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7352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743200" y="1447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1952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12952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16765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85800" y="4343400"/>
            <a:ext cx="1828800" cy="685800"/>
            <a:chOff x="685800" y="4343400"/>
            <a:chExt cx="1828800" cy="685800"/>
          </a:xfrm>
        </p:grpSpPr>
        <p:sp>
          <p:nvSpPr>
            <p:cNvPr id="397" name=""/>
            <p:cNvSpPr/>
            <p:nvPr/>
          </p:nvSpPr>
          <p:spPr>
            <a:xfrm>
              <a:off x="685800" y="4343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34640" y="4815000"/>
              <a:ext cx="222840" cy="214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8640" y="4815000"/>
              <a:ext cx="222840" cy="214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639800" y="4389480"/>
            <a:ext cx="268200" cy="514440"/>
            <a:chOff x="1639800" y="4389480"/>
            <a:chExt cx="268200" cy="514440"/>
          </a:xfrm>
        </p:grpSpPr>
        <p:sp>
          <p:nvSpPr>
            <p:cNvPr id="401" name=""/>
            <p:cNvSpPr/>
            <p:nvPr/>
          </p:nvSpPr>
          <p:spPr>
            <a:xfrm>
              <a:off x="1642680" y="4389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39800" y="4543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09480" y="4495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4191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4343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4114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4191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4724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086600" y="1295280"/>
            <a:ext cx="1828800" cy="685800"/>
            <a:chOff x="7086600" y="1295280"/>
            <a:chExt cx="1828800" cy="685800"/>
          </a:xfrm>
        </p:grpSpPr>
        <p:sp>
          <p:nvSpPr>
            <p:cNvPr id="411" name=""/>
            <p:cNvSpPr/>
            <p:nvPr/>
          </p:nvSpPr>
          <p:spPr>
            <a:xfrm>
              <a:off x="708660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35440" y="1766880"/>
              <a:ext cx="222840" cy="2142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09440" y="1766880"/>
              <a:ext cx="222840" cy="2142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8040600" y="1341360"/>
            <a:ext cx="268200" cy="514440"/>
            <a:chOff x="8040600" y="1341360"/>
            <a:chExt cx="268200" cy="514440"/>
          </a:xfrm>
        </p:grpSpPr>
        <p:sp>
          <p:nvSpPr>
            <p:cNvPr id="415" name=""/>
            <p:cNvSpPr/>
            <p:nvPr/>
          </p:nvSpPr>
          <p:spPr>
            <a:xfrm>
              <a:off x="80434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406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010280" y="1447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91520" y="1295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104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1676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85800" y="2209680"/>
            <a:ext cx="1828800" cy="685800"/>
            <a:chOff x="685800" y="2209680"/>
            <a:chExt cx="1828800" cy="685800"/>
          </a:xfrm>
        </p:grpSpPr>
        <p:sp>
          <p:nvSpPr>
            <p:cNvPr id="425" name=""/>
            <p:cNvSpPr/>
            <p:nvPr/>
          </p:nvSpPr>
          <p:spPr>
            <a:xfrm>
              <a:off x="68580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4640" y="2681280"/>
              <a:ext cx="222840" cy="2142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08640" y="2681280"/>
              <a:ext cx="222840" cy="2142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639800" y="2255760"/>
            <a:ext cx="268200" cy="514440"/>
            <a:chOff x="1639800" y="2255760"/>
            <a:chExt cx="268200" cy="514440"/>
          </a:xfrm>
        </p:grpSpPr>
        <p:sp>
          <p:nvSpPr>
            <p:cNvPr id="429" name=""/>
            <p:cNvSpPr/>
            <p:nvPr/>
          </p:nvSpPr>
          <p:spPr>
            <a:xfrm>
              <a:off x="164268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3980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09480" y="2362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716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981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2057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2590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819520" y="2209680"/>
            <a:ext cx="1828800" cy="685800"/>
            <a:chOff x="2819520" y="2209680"/>
            <a:chExt cx="1828800" cy="685800"/>
          </a:xfrm>
        </p:grpSpPr>
        <p:sp>
          <p:nvSpPr>
            <p:cNvPr id="439" name=""/>
            <p:cNvSpPr/>
            <p:nvPr/>
          </p:nvSpPr>
          <p:spPr>
            <a:xfrm>
              <a:off x="281952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68360" y="2681280"/>
              <a:ext cx="222840" cy="214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2360" y="2681280"/>
              <a:ext cx="222840" cy="214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773520" y="2255760"/>
            <a:ext cx="268200" cy="514440"/>
            <a:chOff x="3773520" y="2255760"/>
            <a:chExt cx="268200" cy="514440"/>
          </a:xfrm>
        </p:grpSpPr>
        <p:sp>
          <p:nvSpPr>
            <p:cNvPr id="443" name=""/>
            <p:cNvSpPr/>
            <p:nvPr/>
          </p:nvSpPr>
          <p:spPr>
            <a:xfrm>
              <a:off x="377640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7352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7432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81952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50532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029200" y="2209680"/>
            <a:ext cx="1828800" cy="685800"/>
            <a:chOff x="5029200" y="2209680"/>
            <a:chExt cx="1828800" cy="685800"/>
          </a:xfrm>
        </p:grpSpPr>
        <p:sp>
          <p:nvSpPr>
            <p:cNvPr id="453" name=""/>
            <p:cNvSpPr/>
            <p:nvPr/>
          </p:nvSpPr>
          <p:spPr>
            <a:xfrm>
              <a:off x="502920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78040" y="2681280"/>
              <a:ext cx="222840" cy="21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52040" y="2681280"/>
              <a:ext cx="222840" cy="21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983200" y="2255760"/>
            <a:ext cx="268200" cy="514440"/>
            <a:chOff x="5983200" y="2255760"/>
            <a:chExt cx="268200" cy="514440"/>
          </a:xfrm>
        </p:grpSpPr>
        <p:sp>
          <p:nvSpPr>
            <p:cNvPr id="457" name=""/>
            <p:cNvSpPr/>
            <p:nvPr/>
          </p:nvSpPr>
          <p:spPr>
            <a:xfrm>
              <a:off x="598608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8320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952880" y="2362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1981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95880" y="2057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2590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162920" y="2209680"/>
            <a:ext cx="1828800" cy="685800"/>
            <a:chOff x="7162920" y="2209680"/>
            <a:chExt cx="1828800" cy="685800"/>
          </a:xfrm>
        </p:grpSpPr>
        <p:sp>
          <p:nvSpPr>
            <p:cNvPr id="467" name=""/>
            <p:cNvSpPr/>
            <p:nvPr/>
          </p:nvSpPr>
          <p:spPr>
            <a:xfrm>
              <a:off x="716292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11760" y="2681280"/>
              <a:ext cx="222840" cy="2142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85760" y="2681280"/>
              <a:ext cx="222840" cy="2142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8116920" y="2255760"/>
            <a:ext cx="268200" cy="514440"/>
            <a:chOff x="8116920" y="2255760"/>
            <a:chExt cx="268200" cy="514440"/>
          </a:xfrm>
        </p:grpSpPr>
        <p:sp>
          <p:nvSpPr>
            <p:cNvPr id="471" name=""/>
            <p:cNvSpPr/>
            <p:nvPr/>
          </p:nvSpPr>
          <p:spPr>
            <a:xfrm>
              <a:off x="811980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1692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70866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6292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674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84872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6868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2296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62120" y="3048120"/>
            <a:ext cx="1828800" cy="685800"/>
            <a:chOff x="762120" y="3048120"/>
            <a:chExt cx="1828800" cy="685800"/>
          </a:xfrm>
        </p:grpSpPr>
        <p:sp>
          <p:nvSpPr>
            <p:cNvPr id="481" name=""/>
            <p:cNvSpPr/>
            <p:nvPr/>
          </p:nvSpPr>
          <p:spPr>
            <a:xfrm>
              <a:off x="762120" y="304812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0960" y="3519720"/>
              <a:ext cx="222840" cy="2142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84960" y="3519720"/>
              <a:ext cx="222840" cy="2142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716120" y="3094200"/>
            <a:ext cx="268200" cy="514080"/>
            <a:chOff x="1716120" y="3094200"/>
            <a:chExt cx="268200" cy="514080"/>
          </a:xfrm>
        </p:grpSpPr>
        <p:sp>
          <p:nvSpPr>
            <p:cNvPr id="485" name=""/>
            <p:cNvSpPr/>
            <p:nvPr/>
          </p:nvSpPr>
          <p:spPr>
            <a:xfrm>
              <a:off x="1719000" y="30942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16120" y="324864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85800" y="3200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3048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288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3429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819520" y="3124080"/>
            <a:ext cx="1828800" cy="685800"/>
            <a:chOff x="2819520" y="3124080"/>
            <a:chExt cx="1828800" cy="685800"/>
          </a:xfrm>
        </p:grpSpPr>
        <p:sp>
          <p:nvSpPr>
            <p:cNvPr id="495" name=""/>
            <p:cNvSpPr/>
            <p:nvPr/>
          </p:nvSpPr>
          <p:spPr>
            <a:xfrm>
              <a:off x="2819520" y="3124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68360" y="3595680"/>
              <a:ext cx="222840" cy="2142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2360" y="3595680"/>
              <a:ext cx="222840" cy="2142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73520" y="3170160"/>
            <a:ext cx="268200" cy="514440"/>
            <a:chOff x="3773520" y="3170160"/>
            <a:chExt cx="268200" cy="514440"/>
          </a:xfrm>
        </p:grpSpPr>
        <p:sp>
          <p:nvSpPr>
            <p:cNvPr id="499" name=""/>
            <p:cNvSpPr/>
            <p:nvPr/>
          </p:nvSpPr>
          <p:spPr>
            <a:xfrm>
              <a:off x="3776400" y="3170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73520" y="3324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743200" y="3276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3124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0532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66880" y="3505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029200" y="3124080"/>
            <a:ext cx="1828800" cy="685800"/>
            <a:chOff x="5029200" y="3124080"/>
            <a:chExt cx="1828800" cy="685800"/>
          </a:xfrm>
        </p:grpSpPr>
        <p:sp>
          <p:nvSpPr>
            <p:cNvPr id="509" name=""/>
            <p:cNvSpPr/>
            <p:nvPr/>
          </p:nvSpPr>
          <p:spPr>
            <a:xfrm>
              <a:off x="5029200" y="3124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78040" y="3595680"/>
              <a:ext cx="222840" cy="214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52040" y="3595680"/>
              <a:ext cx="222840" cy="214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983200" y="3170160"/>
            <a:ext cx="268200" cy="514440"/>
            <a:chOff x="5983200" y="3170160"/>
            <a:chExt cx="268200" cy="514440"/>
          </a:xfrm>
        </p:grpSpPr>
        <p:sp>
          <p:nvSpPr>
            <p:cNvPr id="513" name=""/>
            <p:cNvSpPr/>
            <p:nvPr/>
          </p:nvSpPr>
          <p:spPr>
            <a:xfrm>
              <a:off x="5986080" y="3170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83200" y="3324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952880" y="3276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2920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3124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53080" y="2895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2971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76920" y="3505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819520" y="4267080"/>
            <a:ext cx="1828800" cy="685800"/>
            <a:chOff x="2819520" y="4267080"/>
            <a:chExt cx="1828800" cy="685800"/>
          </a:xfrm>
        </p:grpSpPr>
        <p:sp>
          <p:nvSpPr>
            <p:cNvPr id="523" name=""/>
            <p:cNvSpPr/>
            <p:nvPr/>
          </p:nvSpPr>
          <p:spPr>
            <a:xfrm>
              <a:off x="2819520" y="4267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68360" y="47386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2360" y="47386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73520" y="4313160"/>
            <a:ext cx="268200" cy="514440"/>
            <a:chOff x="3773520" y="4313160"/>
            <a:chExt cx="268200" cy="514440"/>
          </a:xfrm>
        </p:grpSpPr>
        <p:sp>
          <p:nvSpPr>
            <p:cNvPr id="527" name=""/>
            <p:cNvSpPr/>
            <p:nvPr/>
          </p:nvSpPr>
          <p:spPr>
            <a:xfrm>
              <a:off x="3776400" y="431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73520" y="4467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2743200" y="4419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4267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0532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648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943600" y="1143000"/>
            <a:ext cx="457200" cy="837720"/>
            <a:chOff x="5943600" y="1143000"/>
            <a:chExt cx="457200" cy="837720"/>
          </a:xfrm>
        </p:grpSpPr>
        <p:sp>
          <p:nvSpPr>
            <p:cNvPr id="537" name=""/>
            <p:cNvSpPr/>
            <p:nvPr/>
          </p:nvSpPr>
          <p:spPr>
            <a:xfrm>
              <a:off x="6080040" y="11430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43600" y="13726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952880" y="4114800"/>
            <a:ext cx="457200" cy="837720"/>
            <a:chOff x="4952880" y="4114800"/>
            <a:chExt cx="457200" cy="837720"/>
          </a:xfrm>
        </p:grpSpPr>
        <p:sp>
          <p:nvSpPr>
            <p:cNvPr id="540" name=""/>
            <p:cNvSpPr/>
            <p:nvPr/>
          </p:nvSpPr>
          <p:spPr>
            <a:xfrm>
              <a:off x="5089320" y="4114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52880" y="4344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848720" y="2971800"/>
            <a:ext cx="457200" cy="837720"/>
            <a:chOff x="7848720" y="2971800"/>
            <a:chExt cx="457200" cy="837720"/>
          </a:xfrm>
        </p:grpSpPr>
        <p:sp>
          <p:nvSpPr>
            <p:cNvPr id="543" name=""/>
            <p:cNvSpPr/>
            <p:nvPr/>
          </p:nvSpPr>
          <p:spPr>
            <a:xfrm>
              <a:off x="7985160" y="2971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48720" y="3201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295280" y="1371600"/>
            <a:ext cx="268560" cy="514440"/>
            <a:chOff x="1295280" y="1371600"/>
            <a:chExt cx="268560" cy="514440"/>
          </a:xfrm>
        </p:grpSpPr>
        <p:sp>
          <p:nvSpPr>
            <p:cNvPr id="546" name=""/>
            <p:cNvSpPr/>
            <p:nvPr/>
          </p:nvSpPr>
          <p:spPr>
            <a:xfrm>
              <a:off x="1298160" y="13716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95280" y="152604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867280" y="4267080"/>
            <a:ext cx="1828800" cy="685800"/>
            <a:chOff x="5867280" y="4267080"/>
            <a:chExt cx="1828800" cy="685800"/>
          </a:xfrm>
        </p:grpSpPr>
        <p:sp>
          <p:nvSpPr>
            <p:cNvPr id="549" name=""/>
            <p:cNvSpPr/>
            <p:nvPr/>
          </p:nvSpPr>
          <p:spPr>
            <a:xfrm>
              <a:off x="5867280" y="4267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16120" y="4738680"/>
              <a:ext cx="222840" cy="2142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0120" y="4738680"/>
              <a:ext cx="222840" cy="2142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821640" y="4313160"/>
            <a:ext cx="268200" cy="514440"/>
            <a:chOff x="6821640" y="4313160"/>
            <a:chExt cx="268200" cy="514440"/>
          </a:xfrm>
        </p:grpSpPr>
        <p:sp>
          <p:nvSpPr>
            <p:cNvPr id="553" name=""/>
            <p:cNvSpPr/>
            <p:nvPr/>
          </p:nvSpPr>
          <p:spPr>
            <a:xfrm>
              <a:off x="6824520" y="431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1640" y="4467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791320" y="4419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67280" y="4114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267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53080" y="4038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93432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4648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62120" y="5486400"/>
            <a:ext cx="1828800" cy="685800"/>
            <a:chOff x="762120" y="5486400"/>
            <a:chExt cx="1828800" cy="685800"/>
          </a:xfrm>
        </p:grpSpPr>
        <p:sp>
          <p:nvSpPr>
            <p:cNvPr id="563" name=""/>
            <p:cNvSpPr/>
            <p:nvPr/>
          </p:nvSpPr>
          <p:spPr>
            <a:xfrm>
              <a:off x="762120" y="5486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10960" y="595800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4960" y="595800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716120" y="5532480"/>
            <a:ext cx="268200" cy="514440"/>
            <a:chOff x="1716120" y="5532480"/>
            <a:chExt cx="268200" cy="514440"/>
          </a:xfrm>
        </p:grpSpPr>
        <p:sp>
          <p:nvSpPr>
            <p:cNvPr id="567" name=""/>
            <p:cNvSpPr/>
            <p:nvPr/>
          </p:nvSpPr>
          <p:spPr>
            <a:xfrm>
              <a:off x="1719000" y="5532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16120" y="5686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685800" y="5638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212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66680" y="5486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2860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8672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971800" y="5486400"/>
            <a:ext cx="1828800" cy="685800"/>
            <a:chOff x="2971800" y="5486400"/>
            <a:chExt cx="1828800" cy="685800"/>
          </a:xfrm>
        </p:grpSpPr>
        <p:sp>
          <p:nvSpPr>
            <p:cNvPr id="577" name=""/>
            <p:cNvSpPr/>
            <p:nvPr/>
          </p:nvSpPr>
          <p:spPr>
            <a:xfrm>
              <a:off x="2971800" y="5486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20640" y="595800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94640" y="595800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925800" y="5532480"/>
            <a:ext cx="268200" cy="514440"/>
            <a:chOff x="3925800" y="5532480"/>
            <a:chExt cx="268200" cy="514440"/>
          </a:xfrm>
        </p:grpSpPr>
        <p:sp>
          <p:nvSpPr>
            <p:cNvPr id="581" name=""/>
            <p:cNvSpPr/>
            <p:nvPr/>
          </p:nvSpPr>
          <p:spPr>
            <a:xfrm>
              <a:off x="3928680" y="5532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25800" y="5686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895480" y="5638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76720" y="5486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495680" y="5257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5334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5867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400800" y="5410080"/>
            <a:ext cx="1828800" cy="685800"/>
            <a:chOff x="6400800" y="5410080"/>
            <a:chExt cx="1828800" cy="685800"/>
          </a:xfrm>
        </p:grpSpPr>
        <p:sp>
          <p:nvSpPr>
            <p:cNvPr id="591" name=""/>
            <p:cNvSpPr/>
            <p:nvPr/>
          </p:nvSpPr>
          <p:spPr>
            <a:xfrm>
              <a:off x="6400800" y="5410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49640" y="5881680"/>
              <a:ext cx="222840" cy="214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3640" y="5881680"/>
              <a:ext cx="222840" cy="214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354800" y="5456160"/>
            <a:ext cx="268200" cy="514440"/>
            <a:chOff x="7354800" y="5456160"/>
            <a:chExt cx="268200" cy="514440"/>
          </a:xfrm>
        </p:grpSpPr>
        <p:sp>
          <p:nvSpPr>
            <p:cNvPr id="595" name=""/>
            <p:cNvSpPr/>
            <p:nvPr/>
          </p:nvSpPr>
          <p:spPr>
            <a:xfrm>
              <a:off x="7357680" y="5456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54800" y="5610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324480" y="5562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05720" y="5410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181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924680" y="5181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67480" y="5257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248520" y="5791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105520" y="1066680"/>
            <a:ext cx="457200" cy="838080"/>
            <a:chOff x="5105520" y="1066680"/>
            <a:chExt cx="457200" cy="838080"/>
          </a:xfrm>
        </p:grpSpPr>
        <p:sp>
          <p:nvSpPr>
            <p:cNvPr id="605" name=""/>
            <p:cNvSpPr/>
            <p:nvPr/>
          </p:nvSpPr>
          <p:spPr>
            <a:xfrm>
              <a:off x="5241960" y="1066680"/>
              <a:ext cx="262080" cy="2444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05520" y="1296360"/>
              <a:ext cx="457200" cy="60840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334120" y="5257800"/>
            <a:ext cx="457200" cy="837720"/>
            <a:chOff x="5334120" y="5257800"/>
            <a:chExt cx="457200" cy="837720"/>
          </a:xfrm>
        </p:grpSpPr>
        <p:sp>
          <p:nvSpPr>
            <p:cNvPr id="608" name=""/>
            <p:cNvSpPr/>
            <p:nvPr/>
          </p:nvSpPr>
          <p:spPr>
            <a:xfrm>
              <a:off x="5470560" y="5257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34120" y="5487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219320" y="4572000"/>
            <a:ext cx="30456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52680" y="2438280"/>
            <a:ext cx="30492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638680" y="2286000"/>
            <a:ext cx="268560" cy="514440"/>
            <a:chOff x="5638680" y="2286000"/>
            <a:chExt cx="268560" cy="514440"/>
          </a:xfrm>
        </p:grpSpPr>
        <p:sp>
          <p:nvSpPr>
            <p:cNvPr id="613" name=""/>
            <p:cNvSpPr/>
            <p:nvPr/>
          </p:nvSpPr>
          <p:spPr>
            <a:xfrm>
              <a:off x="5641560" y="22860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38680" y="244044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371600" y="5562720"/>
            <a:ext cx="268200" cy="514080"/>
            <a:chOff x="1371600" y="5562720"/>
            <a:chExt cx="268200" cy="514080"/>
          </a:xfrm>
        </p:grpSpPr>
        <p:sp>
          <p:nvSpPr>
            <p:cNvPr id="616" name=""/>
            <p:cNvSpPr/>
            <p:nvPr/>
          </p:nvSpPr>
          <p:spPr>
            <a:xfrm>
              <a:off x="1374480" y="55627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71600" y="571716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kä liikenteessä on se olennaine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1219320" y="1066680"/>
            <a:ext cx="7165800" cy="5028840"/>
            <a:chOff x="1219320" y="1066680"/>
            <a:chExt cx="7165800" cy="5028840"/>
          </a:xfrm>
        </p:grpSpPr>
        <p:grpSp>
          <p:nvGrpSpPr>
            <p:cNvPr id="620" name=""/>
            <p:cNvGrpSpPr/>
            <p:nvPr/>
          </p:nvGrpSpPr>
          <p:grpSpPr>
            <a:xfrm>
              <a:off x="7238880" y="2971800"/>
              <a:ext cx="457200" cy="837720"/>
              <a:chOff x="7238880" y="2971800"/>
              <a:chExt cx="457200" cy="837720"/>
            </a:xfrm>
          </p:grpSpPr>
          <p:sp>
            <p:nvSpPr>
              <p:cNvPr id="621" name=""/>
              <p:cNvSpPr/>
              <p:nvPr/>
            </p:nvSpPr>
            <p:spPr>
              <a:xfrm>
                <a:off x="7375320" y="29718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38880" y="32014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1639800" y="1341360"/>
              <a:ext cx="268200" cy="514440"/>
              <a:chOff x="1639800" y="1341360"/>
              <a:chExt cx="268200" cy="514440"/>
            </a:xfrm>
          </p:grpSpPr>
          <p:sp>
            <p:nvSpPr>
              <p:cNvPr id="624" name=""/>
              <p:cNvSpPr/>
              <p:nvPr/>
            </p:nvSpPr>
            <p:spPr>
              <a:xfrm>
                <a:off x="1642680" y="13413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39800" y="14958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773520" y="1341360"/>
              <a:ext cx="268200" cy="514440"/>
              <a:chOff x="3773520" y="1341360"/>
              <a:chExt cx="268200" cy="514440"/>
            </a:xfrm>
          </p:grpSpPr>
          <p:sp>
            <p:nvSpPr>
              <p:cNvPr id="627" name=""/>
              <p:cNvSpPr/>
              <p:nvPr/>
            </p:nvSpPr>
            <p:spPr>
              <a:xfrm>
                <a:off x="3776400" y="13413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773520" y="14958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1639800" y="4389480"/>
              <a:ext cx="268200" cy="514440"/>
              <a:chOff x="1639800" y="4389480"/>
              <a:chExt cx="268200" cy="514440"/>
            </a:xfrm>
          </p:grpSpPr>
          <p:sp>
            <p:nvSpPr>
              <p:cNvPr id="630" name=""/>
              <p:cNvSpPr/>
              <p:nvPr/>
            </p:nvSpPr>
            <p:spPr>
              <a:xfrm>
                <a:off x="1642680" y="438948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639800" y="454392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8040600" y="1341360"/>
              <a:ext cx="268200" cy="514440"/>
              <a:chOff x="8040600" y="1341360"/>
              <a:chExt cx="268200" cy="514440"/>
            </a:xfrm>
          </p:grpSpPr>
          <p:sp>
            <p:nvSpPr>
              <p:cNvPr id="633" name=""/>
              <p:cNvSpPr/>
              <p:nvPr/>
            </p:nvSpPr>
            <p:spPr>
              <a:xfrm>
                <a:off x="8043480" y="13413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040600" y="14958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1639800" y="2255760"/>
              <a:ext cx="268200" cy="514440"/>
              <a:chOff x="1639800" y="2255760"/>
              <a:chExt cx="268200" cy="514440"/>
            </a:xfrm>
          </p:grpSpPr>
          <p:sp>
            <p:nvSpPr>
              <p:cNvPr id="636" name=""/>
              <p:cNvSpPr/>
              <p:nvPr/>
            </p:nvSpPr>
            <p:spPr>
              <a:xfrm>
                <a:off x="1642680" y="22557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639800" y="24102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773520" y="2255760"/>
              <a:ext cx="268200" cy="514440"/>
              <a:chOff x="3773520" y="2255760"/>
              <a:chExt cx="268200" cy="514440"/>
            </a:xfrm>
          </p:grpSpPr>
          <p:sp>
            <p:nvSpPr>
              <p:cNvPr id="639" name=""/>
              <p:cNvSpPr/>
              <p:nvPr/>
            </p:nvSpPr>
            <p:spPr>
              <a:xfrm>
                <a:off x="3776400" y="22557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3520" y="24102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983200" y="2255760"/>
              <a:ext cx="268200" cy="514440"/>
              <a:chOff x="5983200" y="2255760"/>
              <a:chExt cx="268200" cy="514440"/>
            </a:xfrm>
          </p:grpSpPr>
          <p:sp>
            <p:nvSpPr>
              <p:cNvPr id="642" name=""/>
              <p:cNvSpPr/>
              <p:nvPr/>
            </p:nvSpPr>
            <p:spPr>
              <a:xfrm>
                <a:off x="5986080" y="22557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983200" y="24102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8116920" y="2255760"/>
              <a:ext cx="268200" cy="514440"/>
              <a:chOff x="8116920" y="2255760"/>
              <a:chExt cx="268200" cy="514440"/>
            </a:xfrm>
          </p:grpSpPr>
          <p:sp>
            <p:nvSpPr>
              <p:cNvPr id="645" name=""/>
              <p:cNvSpPr/>
              <p:nvPr/>
            </p:nvSpPr>
            <p:spPr>
              <a:xfrm>
                <a:off x="8119800" y="22557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116920" y="24102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716120" y="3094200"/>
              <a:ext cx="268200" cy="514080"/>
              <a:chOff x="1716120" y="3094200"/>
              <a:chExt cx="268200" cy="514080"/>
            </a:xfrm>
          </p:grpSpPr>
          <p:sp>
            <p:nvSpPr>
              <p:cNvPr id="648" name=""/>
              <p:cNvSpPr/>
              <p:nvPr/>
            </p:nvSpPr>
            <p:spPr>
              <a:xfrm>
                <a:off x="1719000" y="309420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16120" y="3248640"/>
                <a:ext cx="268200" cy="35964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773520" y="3170160"/>
              <a:ext cx="268200" cy="514440"/>
              <a:chOff x="3773520" y="3170160"/>
              <a:chExt cx="268200" cy="514440"/>
            </a:xfrm>
          </p:grpSpPr>
          <p:sp>
            <p:nvSpPr>
              <p:cNvPr id="651" name=""/>
              <p:cNvSpPr/>
              <p:nvPr/>
            </p:nvSpPr>
            <p:spPr>
              <a:xfrm>
                <a:off x="3776400" y="3170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773520" y="3324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5983200" y="3170160"/>
              <a:ext cx="268200" cy="514440"/>
              <a:chOff x="5983200" y="3170160"/>
              <a:chExt cx="268200" cy="514440"/>
            </a:xfrm>
          </p:grpSpPr>
          <p:sp>
            <p:nvSpPr>
              <p:cNvPr id="654" name=""/>
              <p:cNvSpPr/>
              <p:nvPr/>
            </p:nvSpPr>
            <p:spPr>
              <a:xfrm>
                <a:off x="5986080" y="3170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983200" y="3324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773520" y="4313160"/>
              <a:ext cx="268200" cy="514440"/>
              <a:chOff x="3773520" y="4313160"/>
              <a:chExt cx="268200" cy="514440"/>
            </a:xfrm>
          </p:grpSpPr>
          <p:sp>
            <p:nvSpPr>
              <p:cNvPr id="657" name=""/>
              <p:cNvSpPr/>
              <p:nvPr/>
            </p:nvSpPr>
            <p:spPr>
              <a:xfrm>
                <a:off x="3776400" y="4313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773520" y="4467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943600" y="1143000"/>
              <a:ext cx="457200" cy="837720"/>
              <a:chOff x="5943600" y="1143000"/>
              <a:chExt cx="457200" cy="837720"/>
            </a:xfrm>
          </p:grpSpPr>
          <p:sp>
            <p:nvSpPr>
              <p:cNvPr id="660" name=""/>
              <p:cNvSpPr/>
              <p:nvPr/>
            </p:nvSpPr>
            <p:spPr>
              <a:xfrm>
                <a:off x="6080040" y="11430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943600" y="13726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952880" y="4114800"/>
              <a:ext cx="457200" cy="837720"/>
              <a:chOff x="4952880" y="4114800"/>
              <a:chExt cx="457200" cy="837720"/>
            </a:xfrm>
          </p:grpSpPr>
          <p:sp>
            <p:nvSpPr>
              <p:cNvPr id="663" name=""/>
              <p:cNvSpPr/>
              <p:nvPr/>
            </p:nvSpPr>
            <p:spPr>
              <a:xfrm>
                <a:off x="5089320" y="41148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52880" y="43444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7848720" y="2971800"/>
              <a:ext cx="457200" cy="837720"/>
              <a:chOff x="7848720" y="2971800"/>
              <a:chExt cx="457200" cy="837720"/>
            </a:xfrm>
          </p:grpSpPr>
          <p:sp>
            <p:nvSpPr>
              <p:cNvPr id="666" name=""/>
              <p:cNvSpPr/>
              <p:nvPr/>
            </p:nvSpPr>
            <p:spPr>
              <a:xfrm>
                <a:off x="7985160" y="29718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848720" y="32014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295280" y="1371600"/>
              <a:ext cx="268560" cy="514440"/>
              <a:chOff x="1295280" y="1371600"/>
              <a:chExt cx="268560" cy="514440"/>
            </a:xfrm>
          </p:grpSpPr>
          <p:sp>
            <p:nvSpPr>
              <p:cNvPr id="669" name=""/>
              <p:cNvSpPr/>
              <p:nvPr/>
            </p:nvSpPr>
            <p:spPr>
              <a:xfrm>
                <a:off x="1298160" y="137160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295280" y="1526040"/>
                <a:ext cx="26856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821640" y="4313160"/>
              <a:ext cx="268200" cy="514440"/>
              <a:chOff x="6821640" y="4313160"/>
              <a:chExt cx="268200" cy="514440"/>
            </a:xfrm>
          </p:grpSpPr>
          <p:sp>
            <p:nvSpPr>
              <p:cNvPr id="672" name=""/>
              <p:cNvSpPr/>
              <p:nvPr/>
            </p:nvSpPr>
            <p:spPr>
              <a:xfrm>
                <a:off x="6824520" y="4313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21640" y="4467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716120" y="5532480"/>
              <a:ext cx="268200" cy="514440"/>
              <a:chOff x="1716120" y="5532480"/>
              <a:chExt cx="268200" cy="514440"/>
            </a:xfrm>
          </p:grpSpPr>
          <p:sp>
            <p:nvSpPr>
              <p:cNvPr id="675" name=""/>
              <p:cNvSpPr/>
              <p:nvPr/>
            </p:nvSpPr>
            <p:spPr>
              <a:xfrm>
                <a:off x="1719000" y="553248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716120" y="568692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3925800" y="5532480"/>
              <a:ext cx="268200" cy="514440"/>
              <a:chOff x="3925800" y="5532480"/>
              <a:chExt cx="268200" cy="514440"/>
            </a:xfrm>
          </p:grpSpPr>
          <p:sp>
            <p:nvSpPr>
              <p:cNvPr id="678" name=""/>
              <p:cNvSpPr/>
              <p:nvPr/>
            </p:nvSpPr>
            <p:spPr>
              <a:xfrm>
                <a:off x="3928680" y="553248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925800" y="568692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7354800" y="5456160"/>
              <a:ext cx="268200" cy="514440"/>
              <a:chOff x="7354800" y="5456160"/>
              <a:chExt cx="268200" cy="514440"/>
            </a:xfrm>
          </p:grpSpPr>
          <p:sp>
            <p:nvSpPr>
              <p:cNvPr id="681" name=""/>
              <p:cNvSpPr/>
              <p:nvPr/>
            </p:nvSpPr>
            <p:spPr>
              <a:xfrm>
                <a:off x="7357680" y="5456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354800" y="5610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5105520" y="1066680"/>
              <a:ext cx="457200" cy="838080"/>
              <a:chOff x="5105520" y="1066680"/>
              <a:chExt cx="45720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5241960" y="1066680"/>
                <a:ext cx="262080" cy="24444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05520" y="1296360"/>
                <a:ext cx="457200" cy="60840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5334120" y="5257800"/>
              <a:ext cx="457200" cy="837720"/>
              <a:chOff x="5334120" y="5257800"/>
              <a:chExt cx="457200" cy="837720"/>
            </a:xfrm>
          </p:grpSpPr>
          <p:sp>
            <p:nvSpPr>
              <p:cNvPr id="687" name=""/>
              <p:cNvSpPr/>
              <p:nvPr/>
            </p:nvSpPr>
            <p:spPr>
              <a:xfrm>
                <a:off x="5470560" y="52578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334120" y="54874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1219320" y="457200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52680" y="243828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5638680" y="2286000"/>
              <a:ext cx="268560" cy="514440"/>
              <a:chOff x="5638680" y="2286000"/>
              <a:chExt cx="268560" cy="514440"/>
            </a:xfrm>
          </p:grpSpPr>
          <p:sp>
            <p:nvSpPr>
              <p:cNvPr id="692" name=""/>
              <p:cNvSpPr/>
              <p:nvPr/>
            </p:nvSpPr>
            <p:spPr>
              <a:xfrm>
                <a:off x="5641560" y="228600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38680" y="2440440"/>
                <a:ext cx="26856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1371600" y="5562720"/>
              <a:ext cx="268200" cy="514080"/>
              <a:chOff x="1371600" y="5562720"/>
              <a:chExt cx="268200" cy="514080"/>
            </a:xfrm>
          </p:grpSpPr>
          <p:sp>
            <p:nvSpPr>
              <p:cNvPr id="695" name=""/>
              <p:cNvSpPr/>
              <p:nvPr/>
            </p:nvSpPr>
            <p:spPr>
              <a:xfrm>
                <a:off x="1374480" y="556272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71600" y="5717160"/>
                <a:ext cx="268200" cy="35964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ä liikenteessä on se olennaine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ktluser</cp:lastModifiedBy>
  <dcterms:modified xsi:type="dcterms:W3CDTF">2011-10-31T16:00:19Z</dcterms:modified>
  <cp:revision>18</cp:revision>
  <dc:subject/>
  <dc:title>Avoin mallitus. Esimerkkinä liikenteen muutosten päästövaikutukset ja sairastuvuus</dc:title>
</cp:coreProperties>
</file>